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DC82-BED4-4001-9AD4-74BC4C7E9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C40C-1847-443B-8716-B4AB2EE9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C3F2-DFA3-4E86-8212-CE1CE79E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6985-D8CF-4FE1-95D7-38B4D60D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F300-7700-46E1-ADB9-2072144A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F4BD-840B-4449-8E79-7B166086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F4CD-A8DB-49A8-8707-3121FEAE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B7D4-3594-4FB5-9C6F-1587EAE4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8A39-96CD-45DE-B221-76EDB067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4525-D05A-4AC2-9D85-DA6EE348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7099-6CA7-4154-8861-0C931844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F4FB-1CE3-4706-A653-19865F0A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EC92-C4D3-4DBA-A568-99BBB447EF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4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-248400" y="6137280"/>
            <a:ext cx="146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66A9-8590-4FC8-8678-7E07AD58B9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hapter 5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Gas Law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66680" y="685800"/>
            <a:ext cx="7239240" cy="525780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3124080"/>
            <a:ext cx="838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5943600"/>
            <a:ext cx="3047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 (at constant 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8480" y="1754280"/>
            <a:ext cx="6551640" cy="418932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3280" y="3475080"/>
            <a:ext cx="8985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</a:rPr>
              <a:t>CO</a:t>
            </a:r>
            <a:r>
              <a:rPr b="0" lang="en-US" sz="4000" spc="-1" strike="noStrike" baseline="-25000">
                <a:solidFill>
                  <a:srgbClr val="081d58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8480" y="1754280"/>
            <a:ext cx="7237440" cy="1446120"/>
          </a:xfrm>
          <a:prstGeom prst="line">
            <a:avLst/>
          </a:prstGeom>
          <a:ln w="507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2960" y="2941560"/>
            <a:ext cx="627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7c03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037c03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068480" y="1068120"/>
            <a:ext cx="7313400" cy="60804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-247680" y="1568160"/>
            <a:ext cx="2167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2.41 L at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8480" y="1733400"/>
            <a:ext cx="7237440" cy="0"/>
          </a:xfrm>
          <a:prstGeom prst="line">
            <a:avLst/>
          </a:prstGeom>
          <a:ln w="50760">
            <a:solidFill>
              <a:srgbClr val="063de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9907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Times New Roman"/>
              </a:rPr>
              <a:t>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1752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5fb"/>
                </a:solidFill>
                <a:latin typeface="Times New Roman"/>
              </a:rPr>
              <a:t>Ideal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54100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</a:rPr>
              <a:t>0 to 1.00 atm </a:t>
            </a:r>
            <a:r>
              <a:rPr b="0" lang="en-US" sz="2800" spc="-1" strike="noStrike">
                <a:solidFill>
                  <a:srgbClr val="081d58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.5 L of nitrogen at 25ºC and 742 torr are compressed to 9.8 atm at constant T. What is the new volum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0.6 mL of carbon dioxide at  740 torr is expanded at constant temperature to 750 mL. What is the final pressure in kPa?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harle’s La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olume of a gas varies directly with the absolute temperature at constant pressur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 = kT (if T is in Kelvin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 V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T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=  T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phical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9880" y="4191120"/>
            <a:ext cx="9126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8840" y="4191120"/>
            <a:ext cx="9129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14400" y="762120"/>
            <a:ext cx="7543800" cy="49528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58320" y="2865240"/>
            <a:ext cx="110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 (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3040" y="839880"/>
            <a:ext cx="7085160" cy="487512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16640" y="5681520"/>
            <a:ext cx="1204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 (º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93720" y="957240"/>
            <a:ext cx="660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372680" y="1754280"/>
            <a:ext cx="7085160" cy="3960720"/>
          </a:xfrm>
          <a:prstGeom prst="line">
            <a:avLst/>
          </a:prstGeom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15080" y="2405160"/>
            <a:ext cx="9212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Times New Roman"/>
              </a:rPr>
              <a:t>H</a:t>
            </a:r>
            <a:r>
              <a:rPr b="0" lang="en-US" sz="4000" spc="-1" strike="noStrike" baseline="-25000">
                <a:solidFill>
                  <a:srgbClr val="fc0128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c0128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449360" y="2973240"/>
            <a:ext cx="7008840" cy="27417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525680" y="4115880"/>
            <a:ext cx="6932520" cy="1598760"/>
          </a:xfrm>
          <a:prstGeom prst="line">
            <a:avLst/>
          </a:prstGeom>
          <a:ln w="507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39120" y="1262160"/>
            <a:ext cx="8985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CH</a:t>
            </a:r>
            <a:r>
              <a:rPr b="0" lang="en-US" sz="4000" spc="-1" strike="noStrike" baseline="-25000">
                <a:solidFill>
                  <a:srgbClr val="063de8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843680" y="3471840"/>
            <a:ext cx="627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7c03"/>
                </a:solidFill>
                <a:latin typeface="Times New Roman"/>
              </a:rPr>
              <a:t>H</a:t>
            </a:r>
            <a:r>
              <a:rPr b="0" lang="en-US" sz="4000" spc="-1" strike="noStrike" baseline="-25000">
                <a:solidFill>
                  <a:srgbClr val="037c03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70920" y="5681520"/>
            <a:ext cx="184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273.15º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388620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</a:rPr>
              <a:t>Absolute zer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would the final volume be if 247 mL of gas at 22ºC is heated to 98ºC , if the pressure is held constan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what temperature would 40.5 L of gas at 23.4ºC have a volume of  81.0 L at constant pressure?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8121600" y="5987880"/>
          <a:ext cx="30492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1600" y="59878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7391520" y="5486400"/>
            <a:ext cx="1295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 presetClass="entr" presetID="0">
                                          <p:stCondLst>
                                            <p:cond evt="begin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cmd type="call" cmd="">
                                      <p:cBhvr>
                                        <p:cTn id="7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vogadro's La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constant temperature and pressure, the volume of gas is directly related to the number of mol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 = k n (n is the number of mole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 V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=  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4724280"/>
            <a:ext cx="8366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57400" y="4724280"/>
            <a:ext cx="8366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ay- Lussac La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constant volume, pressure and absolute temperature are directly relate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 = k 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 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T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=  T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92160" y="4191120"/>
            <a:ext cx="6080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11480" y="4191120"/>
            <a:ext cx="6080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mbined Gas La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 the moles of gas remains constant, use this formula and cancel out the other things that don’t chang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=  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V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lang="en-US" sz="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T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T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68480" y="3581280"/>
            <a:ext cx="12175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20960" y="3581280"/>
            <a:ext cx="12175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deodorant can has a volume of 175 mL and a pressure of 3.8 atm at 22ºC. What would the pressure be if the can was heated to 100.ºC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volume of gas could the can release at 22ºC and 743 torr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essur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ce per unit area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as molecules fill contain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lecules move around and hit sid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llisions are the forc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ainer is the area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asured with a baromet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deal Gas La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V = n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 = 22.4 L at 1 atm, 0ºC, n = 1 mole, what is R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 is the ideal gas consta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 = 0.0821 L atm/ mol 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lls you about a gas NOW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other laws tell you about a gas when it changes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deal Gas La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equation of state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. Which are the current conditions of the ga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dependent of how you end up where you are at. Does not depend on the path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iven 3 variables you can determine the fourth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 Empirical Equation - based on experimental evidenc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deal Gas La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ideal gas is hypothetical, most gases behave as real ga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ases only approach ideal behavior a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ow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pressure (&lt; 1 atm)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ig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temperatur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the laws anyway, unless told to do otherwis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y give us good estimat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47.3 L container containing 1.62 mol of He  is heated until the pressure reaches 1.85 atm. What is the temperatur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r gas in a 18.5 L cylinder exerts a pressure of 8.61 atm at 24.8ºC What is the mass of Kr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sample of gas has a volume of 4.18 L at 29ºC and 732 torr. What would its volume be at 24.8ºC and 756 torr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as Density and Molar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 = m/V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t </a:t>
            </a:r>
            <a:r>
              <a:rPr b="1" lang="en-US" sz="3200" spc="-1" strike="noStrike">
                <a:solidFill>
                  <a:srgbClr val="ffffff"/>
                </a:solidFill>
                <a:latin typeface="Lydian Csv BT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 for molar m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ydian Csv BT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m/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= PV/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ydian Csv BT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  m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PV/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Lydian Csv BT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mRT  = m  RT   = DR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PV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V   P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82880" y="5200560"/>
            <a:ext cx="9126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59240" y="5200560"/>
            <a:ext cx="9129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06760" y="5200560"/>
            <a:ext cx="4557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6240" y="5200560"/>
            <a:ext cx="4557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4114800"/>
            <a:ext cx="9126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s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the density of ammonia at 23ºC and 735 torr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compound has the empirical formula C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. A 256 mL flask at 100.ºC and 750 torr contains 0.80 g of the gaseous compound. What is the empirical formula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ases and Stoichiomet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ctions happen in mo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Standard Temperature and Pressure (STP, 0ºC and 1 atm)  1 mole of gas occupies 22.42 L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 not at STP, use the ideal gas law to calculate moles of reactant or volume of produc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rcury can be achieved by the following reac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volume of oxygen gas can be produced from 4.10 g of mercury (II) oxide at STP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400.ºC and 740 torr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676520" y="2235240"/>
                <a:ext cx="6097320" cy="406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gO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heat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 Hg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+ 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ing the following reac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culate the mass of sodium hydrogen carbonate necessary to produce 2.87 L of carbon dioxide at 25ºC and 2.00 atm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  27 L of gas are produced at 26ºC and 745 torr when 2.6 L of HCl are added what is the concentration of HCl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48120" y="2038320"/>
                <a:ext cx="57481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aCl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+ 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895320" y="1562040"/>
                <a:ext cx="574668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aHCO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HCl </m:t>
                    </m:r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ider the following reac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What volume of NO at 1.0 atm and 1000.ºC can be produced from 10.0 L of N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nd excess 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t the same temperature and pressur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volume of 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measured at STP will be consumed when 10.0 kg N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s reacted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628560" y="1828800"/>
                <a:ext cx="81108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4N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+ 5 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4 NO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 6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aromet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19720" y="12189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pressure of the atmosphere at sea level will hold a column of mercury 760 mm Hg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atm = 760 mm H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39720" y="4759200"/>
            <a:ext cx="1968480" cy="90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73200" y="4851360"/>
            <a:ext cx="1881360" cy="107460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39720" y="5527800"/>
            <a:ext cx="1968480" cy="904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93720" y="5208480"/>
            <a:ext cx="0" cy="8305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93720" y="5411880"/>
            <a:ext cx="1871640" cy="423720"/>
          </a:xfrm>
          <a:prstGeom prst="rect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5308920"/>
            <a:ext cx="1861560" cy="102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3" y="11906"/>
                </a:moveTo>
                <a:arcTo wR="10800" hR="10800" stAng="352698" swAng="10468570"/>
                <a:lnTo>
                  <a:pt x="10800" y="10800"/>
                </a:lnTo>
                <a:close/>
              </a:path>
              <a:path fill="none" w="21600" h="21600">
                <a:moveTo>
                  <a:pt x="21543" y="11906"/>
                </a:moveTo>
                <a:arcTo wR="10800" hR="10800" stAng="352698" swAng="10468570"/>
              </a:path>
            </a:pathLst>
          </a:custGeom>
          <a:solidFill>
            <a:srgbClr val="919191"/>
          </a:solidFill>
          <a:ln cap="rnd"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81200" y="5581800"/>
            <a:ext cx="1685880" cy="63792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31800" y="4724640"/>
            <a:ext cx="1981080" cy="102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74" y="7798"/>
                </a:moveTo>
                <a:arcTo wR="10800" hR="10800" stAng="-968335" swAng="12504559"/>
                <a:lnTo>
                  <a:pt x="10800" y="10800"/>
                </a:lnTo>
                <a:close/>
              </a:path>
              <a:path fill="none" w="21600" h="21600">
                <a:moveTo>
                  <a:pt x="21174" y="7798"/>
                </a:moveTo>
                <a:arcTo wR="10800" hR="10800" stAng="-968335" swAng="12504559"/>
              </a:path>
            </a:pathLst>
          </a:custGeom>
          <a:noFill/>
          <a:ln cap="rnd"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60680" y="5192640"/>
            <a:ext cx="0" cy="8301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82560" y="5278320"/>
            <a:ext cx="0" cy="7066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368440" y="912960"/>
            <a:ext cx="261720" cy="4527360"/>
            <a:chOff x="2368440" y="912960"/>
            <a:chExt cx="261720" cy="4527360"/>
          </a:xfrm>
        </p:grpSpPr>
        <p:sp>
          <p:nvSpPr>
            <p:cNvPr id="64" name=""/>
            <p:cNvSpPr/>
            <p:nvPr/>
          </p:nvSpPr>
          <p:spPr>
            <a:xfrm flipV="1">
              <a:off x="2368440" y="1176480"/>
              <a:ext cx="0" cy="4263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2627280" y="1157400"/>
              <a:ext cx="0" cy="4262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71680" y="912960"/>
              <a:ext cx="258480" cy="50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5"/>
                  </a:moveTo>
                  <a:arcTo wR="10800" hR="10800" stAng="10607405" swAng="11522018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5"/>
                  </a:moveTo>
                  <a:arcTo wR="10800" hR="10800" stAng="10607405" swAng="11522018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397240" y="1257480"/>
            <a:ext cx="195120" cy="4098600"/>
          </a:xfrm>
          <a:prstGeom prst="rect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0040" y="2901960"/>
            <a:ext cx="1709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 atm Pres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9480" y="4044960"/>
            <a:ext cx="1587240" cy="105408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971800" y="1297080"/>
            <a:ext cx="0" cy="39607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20960" y="1295280"/>
            <a:ext cx="3031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20960" y="5257800"/>
            <a:ext cx="3031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08240" y="2255760"/>
            <a:ext cx="13874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760 mm H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040" y="884160"/>
            <a:ext cx="1768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acu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058840" y="1144440"/>
            <a:ext cx="379440" cy="74880"/>
          </a:xfrm>
          <a:prstGeom prst="line">
            <a:avLst/>
          </a:prstGeom>
          <a:ln w="7632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e Same reac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mass of 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will be produced from 65.0 L of 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nd 75.0 L of N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both measured at STP?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volume Of NO would be produced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mass of NO is produced from 500. L of NH3 at 250.0ºC and 3.00 atm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28560" y="1219320"/>
                <a:ext cx="81108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4N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+ 5 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4 NO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 6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alton’s La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total pressure in a container is the sum of the pressure each gas would exert if it were alone in the contain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total pressure is the sum of the partial pressur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each P = nRT/V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alton's La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15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n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T  + n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T  + n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T  +..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V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V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V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e same container R, T and V are the sam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15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(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 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...)R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V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15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(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R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V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363760" y="1905120"/>
            <a:ext cx="12175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7640" y="1905120"/>
            <a:ext cx="12178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11880" y="1905120"/>
            <a:ext cx="12175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64160" y="4191120"/>
            <a:ext cx="7603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3960" y="5410080"/>
            <a:ext cx="7603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e mole frac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tio of moles of the substance to the total mol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bol is Greek letter chi  </a:t>
            </a:r>
            <a:r>
              <a:rPr b="1" lang="en-US" sz="54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1" lang="en-US" sz="54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1" lang="en-US" sz="5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   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   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Total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35160" y="4267080"/>
            <a:ext cx="12175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7640" y="4267080"/>
            <a:ext cx="12178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partial pressure of nitrogen in air is 592 torr. Air pressure is 752 torr, what is the mole fraction of nitrogen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the partial pressure  of nitrogen if the container holding the air is compressed to 5.25 atm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568840" y="2444760"/>
            <a:ext cx="1282680" cy="21600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54240" y="2444760"/>
            <a:ext cx="1282680" cy="21600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20880" y="1454040"/>
            <a:ext cx="2197080" cy="212112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73560" y="1835280"/>
            <a:ext cx="1434960" cy="143496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11840" y="1606680"/>
            <a:ext cx="1739880" cy="18158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8120" y="2457360"/>
            <a:ext cx="4095720" cy="190440"/>
          </a:xfrm>
          <a:prstGeom prst="rect">
            <a:avLst/>
          </a:prstGeom>
          <a:solidFill>
            <a:srgbClr val="f57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69080" y="2211480"/>
            <a:ext cx="531720" cy="684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5869080" y="2211480"/>
            <a:ext cx="531720" cy="684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30440" y="2211480"/>
            <a:ext cx="532080" cy="684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430440" y="2211480"/>
            <a:ext cx="532080" cy="684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18120" y="1979640"/>
            <a:ext cx="1404360" cy="14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Times New Roman"/>
              </a:rPr>
              <a:t>3.50 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81d58"/>
                </a:solidFill>
                <a:latin typeface="Times New Roman"/>
              </a:rPr>
              <a:t>O</a:t>
            </a:r>
            <a:r>
              <a:rPr b="1" lang="en-US" sz="4400" spc="-1" strike="noStrike" baseline="-25000">
                <a:solidFill>
                  <a:srgbClr val="081d58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27200" y="1979640"/>
            <a:ext cx="1404360" cy="14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Times New Roman"/>
              </a:rPr>
              <a:t>1.50 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81d58"/>
                </a:solidFill>
                <a:latin typeface="Times New Roman"/>
              </a:rPr>
              <a:t>N</a:t>
            </a:r>
            <a:r>
              <a:rPr b="1" lang="en-US" sz="4400" spc="-1" strike="noStrike" baseline="-25000">
                <a:solidFill>
                  <a:srgbClr val="081d58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50480" y="3579840"/>
            <a:ext cx="1861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70 at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7720" y="426708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n these valves are opened, what is each partial pressure and the total  pressur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55400" y="1979640"/>
            <a:ext cx="1404360" cy="14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Times New Roman"/>
              </a:rPr>
              <a:t>4.00 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81d58"/>
                </a:solidFill>
                <a:latin typeface="Times New Roman"/>
              </a:rPr>
              <a:t>CH</a:t>
            </a:r>
            <a:r>
              <a:rPr b="1" lang="en-US" sz="4400" spc="-1" strike="noStrike" baseline="-25000">
                <a:solidFill>
                  <a:srgbClr val="081d58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098600" y="3579840"/>
            <a:ext cx="1861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.58 at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689520" y="3503520"/>
            <a:ext cx="2090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0.752 at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apor Pressur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ter evaporates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n that  water evaporates, the vapor has a pressur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ases are often collected over water so the vapor pressure of water must be subtracted from the total pressur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ter’s vapor pressure must be given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can be produced by the following reac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s)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N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(g) + 2 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(l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volume of 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collected over water at a total pressure of 94 kPa and 22ºC can be produced from 2.6 g of N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 ( the vapor pressure of water at 22ºC is 21 torr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inetic Molecular Theo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plains why ideal gases behave the way they d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se assumptions simplify the theory, but don’t work in real gas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Symbol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particles are so small we can ignore their volum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Symbol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particles are in constant motion and their collisions cause pressure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inetic Molecular Theo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Symbol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particles do not affect each other, neither attracting or repelling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Symbol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average kinetic energy is proportional to the Kelvin temperatur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need the formula KE = 1/2 mv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43400" y="410760"/>
            <a:ext cx="42069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nomet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68560" y="2055960"/>
            <a:ext cx="1333440" cy="4093920"/>
          </a:xfrm>
          <a:custGeom>
            <a:avLst/>
            <a:gdLst/>
            <a:ahLst/>
            <a:rect l="l" t="t" r="r" b="b"/>
            <a:pathLst>
              <a:path w="840" h="2579">
                <a:moveTo>
                  <a:pt x="839" y="1871"/>
                </a:moveTo>
                <a:lnTo>
                  <a:pt x="839" y="2098"/>
                </a:lnTo>
                <a:lnTo>
                  <a:pt x="836" y="2158"/>
                </a:lnTo>
                <a:lnTo>
                  <a:pt x="829" y="2215"/>
                </a:lnTo>
                <a:lnTo>
                  <a:pt x="818" y="2268"/>
                </a:lnTo>
                <a:lnTo>
                  <a:pt x="802" y="2315"/>
                </a:lnTo>
                <a:lnTo>
                  <a:pt x="783" y="2360"/>
                </a:lnTo>
                <a:lnTo>
                  <a:pt x="762" y="2398"/>
                </a:lnTo>
                <a:lnTo>
                  <a:pt x="737" y="2435"/>
                </a:lnTo>
                <a:lnTo>
                  <a:pt x="708" y="2466"/>
                </a:lnTo>
                <a:lnTo>
                  <a:pt x="678" y="2494"/>
                </a:lnTo>
                <a:lnTo>
                  <a:pt x="645" y="2518"/>
                </a:lnTo>
                <a:lnTo>
                  <a:pt x="612" y="2538"/>
                </a:lnTo>
                <a:lnTo>
                  <a:pt x="575" y="2553"/>
                </a:lnTo>
                <a:lnTo>
                  <a:pt x="538" y="2565"/>
                </a:lnTo>
                <a:lnTo>
                  <a:pt x="499" y="2573"/>
                </a:lnTo>
                <a:lnTo>
                  <a:pt x="462" y="2578"/>
                </a:lnTo>
                <a:lnTo>
                  <a:pt x="422" y="2578"/>
                </a:lnTo>
                <a:lnTo>
                  <a:pt x="383" y="2574"/>
                </a:lnTo>
                <a:lnTo>
                  <a:pt x="345" y="2566"/>
                </a:lnTo>
                <a:lnTo>
                  <a:pt x="307" y="2555"/>
                </a:lnTo>
                <a:lnTo>
                  <a:pt x="269" y="2540"/>
                </a:lnTo>
                <a:lnTo>
                  <a:pt x="233" y="2521"/>
                </a:lnTo>
                <a:lnTo>
                  <a:pt x="199" y="2498"/>
                </a:lnTo>
                <a:lnTo>
                  <a:pt x="166" y="2472"/>
                </a:lnTo>
                <a:lnTo>
                  <a:pt x="135" y="2442"/>
                </a:lnTo>
                <a:lnTo>
                  <a:pt x="107" y="2408"/>
                </a:lnTo>
                <a:lnTo>
                  <a:pt x="81" y="2370"/>
                </a:lnTo>
                <a:lnTo>
                  <a:pt x="60" y="2330"/>
                </a:lnTo>
                <a:lnTo>
                  <a:pt x="40" y="2285"/>
                </a:lnTo>
                <a:lnTo>
                  <a:pt x="25" y="2238"/>
                </a:lnTo>
                <a:lnTo>
                  <a:pt x="13" y="2186"/>
                </a:lnTo>
                <a:lnTo>
                  <a:pt x="6" y="2130"/>
                </a:lnTo>
                <a:lnTo>
                  <a:pt x="3" y="2071"/>
                </a:lnTo>
                <a:lnTo>
                  <a:pt x="2" y="2007"/>
                </a:lnTo>
                <a:lnTo>
                  <a:pt x="2" y="1942"/>
                </a:lnTo>
                <a:lnTo>
                  <a:pt x="2" y="1879"/>
                </a:lnTo>
                <a:lnTo>
                  <a:pt x="1" y="1814"/>
                </a:lnTo>
                <a:lnTo>
                  <a:pt x="1" y="1750"/>
                </a:lnTo>
                <a:lnTo>
                  <a:pt x="1" y="1685"/>
                </a:lnTo>
                <a:lnTo>
                  <a:pt x="0" y="1621"/>
                </a:lnTo>
                <a:lnTo>
                  <a:pt x="0" y="1556"/>
                </a:lnTo>
                <a:lnTo>
                  <a:pt x="0" y="1492"/>
                </a:lnTo>
                <a:lnTo>
                  <a:pt x="0" y="1428"/>
                </a:lnTo>
                <a:lnTo>
                  <a:pt x="1" y="1363"/>
                </a:lnTo>
                <a:lnTo>
                  <a:pt x="1" y="1299"/>
                </a:lnTo>
                <a:lnTo>
                  <a:pt x="1" y="1233"/>
                </a:lnTo>
                <a:lnTo>
                  <a:pt x="1" y="1169"/>
                </a:lnTo>
                <a:lnTo>
                  <a:pt x="2" y="1104"/>
                </a:lnTo>
                <a:lnTo>
                  <a:pt x="2" y="1040"/>
                </a:lnTo>
                <a:lnTo>
                  <a:pt x="2" y="976"/>
                </a:lnTo>
                <a:lnTo>
                  <a:pt x="2" y="911"/>
                </a:lnTo>
                <a:lnTo>
                  <a:pt x="2" y="846"/>
                </a:lnTo>
                <a:lnTo>
                  <a:pt x="3" y="782"/>
                </a:lnTo>
                <a:lnTo>
                  <a:pt x="3" y="717"/>
                </a:lnTo>
                <a:lnTo>
                  <a:pt x="3" y="652"/>
                </a:lnTo>
                <a:lnTo>
                  <a:pt x="3" y="589"/>
                </a:lnTo>
                <a:lnTo>
                  <a:pt x="3" y="524"/>
                </a:lnTo>
                <a:lnTo>
                  <a:pt x="3" y="460"/>
                </a:lnTo>
                <a:lnTo>
                  <a:pt x="4" y="395"/>
                </a:lnTo>
                <a:lnTo>
                  <a:pt x="4" y="330"/>
                </a:lnTo>
                <a:lnTo>
                  <a:pt x="4" y="266"/>
                </a:lnTo>
                <a:lnTo>
                  <a:pt x="4" y="202"/>
                </a:lnTo>
                <a:lnTo>
                  <a:pt x="4" y="138"/>
                </a:lnTo>
                <a:lnTo>
                  <a:pt x="4" y="73"/>
                </a:lnTo>
                <a:lnTo>
                  <a:pt x="4" y="9"/>
                </a:lnTo>
                <a:lnTo>
                  <a:pt x="12" y="6"/>
                </a:lnTo>
                <a:lnTo>
                  <a:pt x="20" y="5"/>
                </a:lnTo>
                <a:lnTo>
                  <a:pt x="28" y="3"/>
                </a:lnTo>
                <a:lnTo>
                  <a:pt x="35" y="2"/>
                </a:lnTo>
                <a:lnTo>
                  <a:pt x="43" y="1"/>
                </a:lnTo>
                <a:lnTo>
                  <a:pt x="51" y="0"/>
                </a:lnTo>
                <a:lnTo>
                  <a:pt x="59" y="0"/>
                </a:lnTo>
                <a:lnTo>
                  <a:pt x="66" y="0"/>
                </a:lnTo>
                <a:lnTo>
                  <a:pt x="73" y="1"/>
                </a:lnTo>
                <a:lnTo>
                  <a:pt x="80" y="1"/>
                </a:lnTo>
                <a:lnTo>
                  <a:pt x="88" y="2"/>
                </a:lnTo>
                <a:lnTo>
                  <a:pt x="96" y="4"/>
                </a:lnTo>
                <a:lnTo>
                  <a:pt x="104" y="6"/>
                </a:lnTo>
                <a:lnTo>
                  <a:pt x="113" y="8"/>
                </a:lnTo>
                <a:lnTo>
                  <a:pt x="121" y="10"/>
                </a:lnTo>
                <a:lnTo>
                  <a:pt x="130" y="13"/>
                </a:lnTo>
                <a:lnTo>
                  <a:pt x="130" y="79"/>
                </a:lnTo>
                <a:lnTo>
                  <a:pt x="130" y="145"/>
                </a:lnTo>
                <a:lnTo>
                  <a:pt x="130" y="210"/>
                </a:lnTo>
                <a:lnTo>
                  <a:pt x="130" y="274"/>
                </a:lnTo>
                <a:lnTo>
                  <a:pt x="130" y="339"/>
                </a:lnTo>
                <a:lnTo>
                  <a:pt x="130" y="404"/>
                </a:lnTo>
                <a:lnTo>
                  <a:pt x="130" y="469"/>
                </a:lnTo>
                <a:lnTo>
                  <a:pt x="130" y="535"/>
                </a:lnTo>
                <a:lnTo>
                  <a:pt x="130" y="600"/>
                </a:lnTo>
                <a:lnTo>
                  <a:pt x="130" y="664"/>
                </a:lnTo>
                <a:lnTo>
                  <a:pt x="130" y="728"/>
                </a:lnTo>
                <a:lnTo>
                  <a:pt x="130" y="793"/>
                </a:lnTo>
                <a:lnTo>
                  <a:pt x="130" y="858"/>
                </a:lnTo>
                <a:lnTo>
                  <a:pt x="129" y="923"/>
                </a:lnTo>
                <a:lnTo>
                  <a:pt x="129" y="987"/>
                </a:lnTo>
                <a:lnTo>
                  <a:pt x="129" y="1052"/>
                </a:lnTo>
                <a:lnTo>
                  <a:pt x="128" y="1117"/>
                </a:lnTo>
                <a:lnTo>
                  <a:pt x="128" y="1181"/>
                </a:lnTo>
                <a:lnTo>
                  <a:pt x="128" y="1246"/>
                </a:lnTo>
                <a:lnTo>
                  <a:pt x="128" y="1311"/>
                </a:lnTo>
                <a:lnTo>
                  <a:pt x="128" y="1376"/>
                </a:lnTo>
                <a:lnTo>
                  <a:pt x="128" y="1440"/>
                </a:lnTo>
                <a:lnTo>
                  <a:pt x="127" y="1504"/>
                </a:lnTo>
                <a:lnTo>
                  <a:pt x="127" y="1569"/>
                </a:lnTo>
                <a:lnTo>
                  <a:pt x="127" y="1634"/>
                </a:lnTo>
                <a:lnTo>
                  <a:pt x="127" y="1700"/>
                </a:lnTo>
                <a:lnTo>
                  <a:pt x="127" y="1765"/>
                </a:lnTo>
                <a:lnTo>
                  <a:pt x="127" y="1830"/>
                </a:lnTo>
                <a:lnTo>
                  <a:pt x="127" y="1895"/>
                </a:lnTo>
                <a:lnTo>
                  <a:pt x="127" y="1959"/>
                </a:lnTo>
                <a:lnTo>
                  <a:pt x="127" y="2025"/>
                </a:lnTo>
                <a:lnTo>
                  <a:pt x="127" y="2091"/>
                </a:lnTo>
                <a:lnTo>
                  <a:pt x="131" y="2134"/>
                </a:lnTo>
                <a:lnTo>
                  <a:pt x="138" y="2174"/>
                </a:lnTo>
                <a:lnTo>
                  <a:pt x="147" y="2212"/>
                </a:lnTo>
                <a:lnTo>
                  <a:pt x="159" y="2247"/>
                </a:lnTo>
                <a:lnTo>
                  <a:pt x="173" y="2280"/>
                </a:lnTo>
                <a:lnTo>
                  <a:pt x="189" y="2310"/>
                </a:lnTo>
                <a:lnTo>
                  <a:pt x="208" y="2337"/>
                </a:lnTo>
                <a:lnTo>
                  <a:pt x="227" y="2362"/>
                </a:lnTo>
                <a:lnTo>
                  <a:pt x="248" y="2383"/>
                </a:lnTo>
                <a:lnTo>
                  <a:pt x="271" y="2402"/>
                </a:lnTo>
                <a:lnTo>
                  <a:pt x="296" y="2419"/>
                </a:lnTo>
                <a:lnTo>
                  <a:pt x="320" y="2432"/>
                </a:lnTo>
                <a:lnTo>
                  <a:pt x="346" y="2443"/>
                </a:lnTo>
                <a:lnTo>
                  <a:pt x="371" y="2451"/>
                </a:lnTo>
                <a:lnTo>
                  <a:pt x="398" y="2457"/>
                </a:lnTo>
                <a:lnTo>
                  <a:pt x="424" y="2459"/>
                </a:lnTo>
                <a:lnTo>
                  <a:pt x="451" y="2459"/>
                </a:lnTo>
                <a:lnTo>
                  <a:pt x="477" y="2456"/>
                </a:lnTo>
                <a:lnTo>
                  <a:pt x="503" y="2450"/>
                </a:lnTo>
                <a:lnTo>
                  <a:pt x="528" y="2442"/>
                </a:lnTo>
                <a:lnTo>
                  <a:pt x="552" y="2430"/>
                </a:lnTo>
                <a:lnTo>
                  <a:pt x="576" y="2415"/>
                </a:lnTo>
                <a:lnTo>
                  <a:pt x="598" y="2398"/>
                </a:lnTo>
                <a:lnTo>
                  <a:pt x="620" y="2377"/>
                </a:lnTo>
                <a:lnTo>
                  <a:pt x="638" y="2355"/>
                </a:lnTo>
                <a:lnTo>
                  <a:pt x="655" y="2329"/>
                </a:lnTo>
                <a:lnTo>
                  <a:pt x="672" y="2300"/>
                </a:lnTo>
                <a:lnTo>
                  <a:pt x="685" y="2268"/>
                </a:lnTo>
                <a:lnTo>
                  <a:pt x="696" y="2232"/>
                </a:lnTo>
                <a:lnTo>
                  <a:pt x="705" y="2194"/>
                </a:lnTo>
                <a:lnTo>
                  <a:pt x="711" y="2153"/>
                </a:lnTo>
                <a:lnTo>
                  <a:pt x="714" y="2109"/>
                </a:lnTo>
                <a:lnTo>
                  <a:pt x="714" y="2094"/>
                </a:lnTo>
                <a:lnTo>
                  <a:pt x="714" y="2079"/>
                </a:lnTo>
                <a:lnTo>
                  <a:pt x="714" y="2064"/>
                </a:lnTo>
                <a:lnTo>
                  <a:pt x="714" y="2049"/>
                </a:lnTo>
                <a:lnTo>
                  <a:pt x="714" y="2034"/>
                </a:lnTo>
                <a:lnTo>
                  <a:pt x="714" y="2019"/>
                </a:lnTo>
                <a:lnTo>
                  <a:pt x="714" y="2004"/>
                </a:lnTo>
                <a:lnTo>
                  <a:pt x="714" y="1989"/>
                </a:lnTo>
                <a:lnTo>
                  <a:pt x="714" y="1974"/>
                </a:lnTo>
                <a:lnTo>
                  <a:pt x="714" y="1959"/>
                </a:lnTo>
                <a:lnTo>
                  <a:pt x="714" y="1944"/>
                </a:lnTo>
                <a:lnTo>
                  <a:pt x="714" y="1930"/>
                </a:lnTo>
                <a:lnTo>
                  <a:pt x="714" y="1916"/>
                </a:lnTo>
                <a:lnTo>
                  <a:pt x="714" y="1901"/>
                </a:lnTo>
                <a:lnTo>
                  <a:pt x="714" y="1886"/>
                </a:lnTo>
                <a:lnTo>
                  <a:pt x="714" y="1871"/>
                </a:lnTo>
                <a:lnTo>
                  <a:pt x="724" y="1868"/>
                </a:lnTo>
                <a:lnTo>
                  <a:pt x="733" y="1865"/>
                </a:lnTo>
                <a:lnTo>
                  <a:pt x="742" y="1863"/>
                </a:lnTo>
                <a:lnTo>
                  <a:pt x="750" y="1861"/>
                </a:lnTo>
                <a:lnTo>
                  <a:pt x="757" y="1860"/>
                </a:lnTo>
                <a:lnTo>
                  <a:pt x="764" y="1859"/>
                </a:lnTo>
                <a:lnTo>
                  <a:pt x="770" y="1858"/>
                </a:lnTo>
                <a:lnTo>
                  <a:pt x="777" y="1858"/>
                </a:lnTo>
                <a:lnTo>
                  <a:pt x="783" y="1858"/>
                </a:lnTo>
                <a:lnTo>
                  <a:pt x="790" y="1859"/>
                </a:lnTo>
                <a:lnTo>
                  <a:pt x="797" y="1860"/>
                </a:lnTo>
                <a:lnTo>
                  <a:pt x="804" y="1862"/>
                </a:lnTo>
                <a:lnTo>
                  <a:pt x="812" y="1864"/>
                </a:lnTo>
                <a:lnTo>
                  <a:pt x="820" y="1866"/>
                </a:lnTo>
                <a:lnTo>
                  <a:pt x="830" y="1868"/>
                </a:lnTo>
                <a:lnTo>
                  <a:pt x="839" y="1871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68560" y="2055960"/>
            <a:ext cx="1343160" cy="4103640"/>
          </a:xfrm>
          <a:custGeom>
            <a:avLst/>
            <a:gdLst/>
            <a:ahLst/>
            <a:rect l="l" t="t" r="r" b="b"/>
            <a:pathLst>
              <a:path w="846" h="2585">
                <a:moveTo>
                  <a:pt x="845" y="1875"/>
                </a:moveTo>
                <a:lnTo>
                  <a:pt x="845" y="2103"/>
                </a:lnTo>
                <a:lnTo>
                  <a:pt x="842" y="2163"/>
                </a:lnTo>
                <a:lnTo>
                  <a:pt x="835" y="2220"/>
                </a:lnTo>
                <a:lnTo>
                  <a:pt x="824" y="2273"/>
                </a:lnTo>
                <a:lnTo>
                  <a:pt x="808" y="2320"/>
                </a:lnTo>
                <a:lnTo>
                  <a:pt x="789" y="2365"/>
                </a:lnTo>
                <a:lnTo>
                  <a:pt x="767" y="2404"/>
                </a:lnTo>
                <a:lnTo>
                  <a:pt x="742" y="2441"/>
                </a:lnTo>
                <a:lnTo>
                  <a:pt x="713" y="2472"/>
                </a:lnTo>
                <a:lnTo>
                  <a:pt x="683" y="2500"/>
                </a:lnTo>
                <a:lnTo>
                  <a:pt x="650" y="2524"/>
                </a:lnTo>
                <a:lnTo>
                  <a:pt x="616" y="2544"/>
                </a:lnTo>
                <a:lnTo>
                  <a:pt x="579" y="2559"/>
                </a:lnTo>
                <a:lnTo>
                  <a:pt x="542" y="2571"/>
                </a:lnTo>
                <a:lnTo>
                  <a:pt x="503" y="2579"/>
                </a:lnTo>
                <a:lnTo>
                  <a:pt x="465" y="2584"/>
                </a:lnTo>
                <a:lnTo>
                  <a:pt x="425" y="2584"/>
                </a:lnTo>
                <a:lnTo>
                  <a:pt x="386" y="2580"/>
                </a:lnTo>
                <a:lnTo>
                  <a:pt x="347" y="2572"/>
                </a:lnTo>
                <a:lnTo>
                  <a:pt x="309" y="2561"/>
                </a:lnTo>
                <a:lnTo>
                  <a:pt x="271" y="2546"/>
                </a:lnTo>
                <a:lnTo>
                  <a:pt x="235" y="2527"/>
                </a:lnTo>
                <a:lnTo>
                  <a:pt x="200" y="2504"/>
                </a:lnTo>
                <a:lnTo>
                  <a:pt x="167" y="2478"/>
                </a:lnTo>
                <a:lnTo>
                  <a:pt x="136" y="2448"/>
                </a:lnTo>
                <a:lnTo>
                  <a:pt x="108" y="2414"/>
                </a:lnTo>
                <a:lnTo>
                  <a:pt x="82" y="2376"/>
                </a:lnTo>
                <a:lnTo>
                  <a:pt x="60" y="2335"/>
                </a:lnTo>
                <a:lnTo>
                  <a:pt x="40" y="2290"/>
                </a:lnTo>
                <a:lnTo>
                  <a:pt x="25" y="2243"/>
                </a:lnTo>
                <a:lnTo>
                  <a:pt x="13" y="2191"/>
                </a:lnTo>
                <a:lnTo>
                  <a:pt x="6" y="2135"/>
                </a:lnTo>
                <a:lnTo>
                  <a:pt x="3" y="2076"/>
                </a:lnTo>
                <a:lnTo>
                  <a:pt x="2" y="2012"/>
                </a:lnTo>
                <a:lnTo>
                  <a:pt x="2" y="1947"/>
                </a:lnTo>
                <a:lnTo>
                  <a:pt x="2" y="1883"/>
                </a:lnTo>
                <a:lnTo>
                  <a:pt x="1" y="1818"/>
                </a:lnTo>
                <a:lnTo>
                  <a:pt x="1" y="1754"/>
                </a:lnTo>
                <a:lnTo>
                  <a:pt x="1" y="1689"/>
                </a:lnTo>
                <a:lnTo>
                  <a:pt x="0" y="1625"/>
                </a:lnTo>
                <a:lnTo>
                  <a:pt x="0" y="1560"/>
                </a:lnTo>
                <a:lnTo>
                  <a:pt x="0" y="1495"/>
                </a:lnTo>
                <a:lnTo>
                  <a:pt x="0" y="1431"/>
                </a:lnTo>
                <a:lnTo>
                  <a:pt x="1" y="1366"/>
                </a:lnTo>
                <a:lnTo>
                  <a:pt x="1" y="1302"/>
                </a:lnTo>
                <a:lnTo>
                  <a:pt x="1" y="1236"/>
                </a:lnTo>
                <a:lnTo>
                  <a:pt x="1" y="1172"/>
                </a:lnTo>
                <a:lnTo>
                  <a:pt x="2" y="1107"/>
                </a:lnTo>
                <a:lnTo>
                  <a:pt x="2" y="1042"/>
                </a:lnTo>
                <a:lnTo>
                  <a:pt x="2" y="978"/>
                </a:lnTo>
                <a:lnTo>
                  <a:pt x="2" y="913"/>
                </a:lnTo>
                <a:lnTo>
                  <a:pt x="2" y="848"/>
                </a:lnTo>
                <a:lnTo>
                  <a:pt x="3" y="784"/>
                </a:lnTo>
                <a:lnTo>
                  <a:pt x="3" y="719"/>
                </a:lnTo>
                <a:lnTo>
                  <a:pt x="3" y="654"/>
                </a:lnTo>
                <a:lnTo>
                  <a:pt x="3" y="590"/>
                </a:lnTo>
                <a:lnTo>
                  <a:pt x="3" y="525"/>
                </a:lnTo>
                <a:lnTo>
                  <a:pt x="3" y="461"/>
                </a:lnTo>
                <a:lnTo>
                  <a:pt x="4" y="396"/>
                </a:lnTo>
                <a:lnTo>
                  <a:pt x="4" y="331"/>
                </a:lnTo>
                <a:lnTo>
                  <a:pt x="4" y="267"/>
                </a:lnTo>
                <a:lnTo>
                  <a:pt x="4" y="202"/>
                </a:lnTo>
                <a:lnTo>
                  <a:pt x="4" y="138"/>
                </a:lnTo>
                <a:lnTo>
                  <a:pt x="4" y="73"/>
                </a:lnTo>
                <a:lnTo>
                  <a:pt x="4" y="9"/>
                </a:lnTo>
                <a:lnTo>
                  <a:pt x="12" y="6"/>
                </a:lnTo>
                <a:lnTo>
                  <a:pt x="20" y="5"/>
                </a:lnTo>
                <a:lnTo>
                  <a:pt x="28" y="3"/>
                </a:lnTo>
                <a:lnTo>
                  <a:pt x="35" y="2"/>
                </a:lnTo>
                <a:lnTo>
                  <a:pt x="43" y="1"/>
                </a:lnTo>
                <a:lnTo>
                  <a:pt x="51" y="0"/>
                </a:lnTo>
                <a:lnTo>
                  <a:pt x="59" y="0"/>
                </a:lnTo>
                <a:lnTo>
                  <a:pt x="66" y="0"/>
                </a:lnTo>
                <a:lnTo>
                  <a:pt x="74" y="1"/>
                </a:lnTo>
                <a:lnTo>
                  <a:pt x="81" y="1"/>
                </a:lnTo>
                <a:lnTo>
                  <a:pt x="89" y="2"/>
                </a:lnTo>
                <a:lnTo>
                  <a:pt x="97" y="4"/>
                </a:lnTo>
                <a:lnTo>
                  <a:pt x="105" y="6"/>
                </a:lnTo>
                <a:lnTo>
                  <a:pt x="114" y="8"/>
                </a:lnTo>
                <a:lnTo>
                  <a:pt x="122" y="10"/>
                </a:lnTo>
                <a:lnTo>
                  <a:pt x="131" y="13"/>
                </a:lnTo>
                <a:lnTo>
                  <a:pt x="131" y="79"/>
                </a:lnTo>
                <a:lnTo>
                  <a:pt x="131" y="145"/>
                </a:lnTo>
                <a:lnTo>
                  <a:pt x="131" y="210"/>
                </a:lnTo>
                <a:lnTo>
                  <a:pt x="131" y="275"/>
                </a:lnTo>
                <a:lnTo>
                  <a:pt x="131" y="340"/>
                </a:lnTo>
                <a:lnTo>
                  <a:pt x="131" y="405"/>
                </a:lnTo>
                <a:lnTo>
                  <a:pt x="131" y="470"/>
                </a:lnTo>
                <a:lnTo>
                  <a:pt x="131" y="536"/>
                </a:lnTo>
                <a:lnTo>
                  <a:pt x="131" y="601"/>
                </a:lnTo>
                <a:lnTo>
                  <a:pt x="131" y="666"/>
                </a:lnTo>
                <a:lnTo>
                  <a:pt x="131" y="730"/>
                </a:lnTo>
                <a:lnTo>
                  <a:pt x="131" y="795"/>
                </a:lnTo>
                <a:lnTo>
                  <a:pt x="131" y="860"/>
                </a:lnTo>
                <a:lnTo>
                  <a:pt x="130" y="925"/>
                </a:lnTo>
                <a:lnTo>
                  <a:pt x="130" y="989"/>
                </a:lnTo>
                <a:lnTo>
                  <a:pt x="130" y="1054"/>
                </a:lnTo>
                <a:lnTo>
                  <a:pt x="129" y="1120"/>
                </a:lnTo>
                <a:lnTo>
                  <a:pt x="129" y="1184"/>
                </a:lnTo>
                <a:lnTo>
                  <a:pt x="129" y="1249"/>
                </a:lnTo>
                <a:lnTo>
                  <a:pt x="129" y="1314"/>
                </a:lnTo>
                <a:lnTo>
                  <a:pt x="129" y="1379"/>
                </a:lnTo>
                <a:lnTo>
                  <a:pt x="129" y="1443"/>
                </a:lnTo>
                <a:lnTo>
                  <a:pt x="128" y="1508"/>
                </a:lnTo>
                <a:lnTo>
                  <a:pt x="128" y="1573"/>
                </a:lnTo>
                <a:lnTo>
                  <a:pt x="128" y="1638"/>
                </a:lnTo>
                <a:lnTo>
                  <a:pt x="128" y="1704"/>
                </a:lnTo>
                <a:lnTo>
                  <a:pt x="128" y="1769"/>
                </a:lnTo>
                <a:lnTo>
                  <a:pt x="128" y="1834"/>
                </a:lnTo>
                <a:lnTo>
                  <a:pt x="128" y="1899"/>
                </a:lnTo>
                <a:lnTo>
                  <a:pt x="128" y="1964"/>
                </a:lnTo>
                <a:lnTo>
                  <a:pt x="128" y="2030"/>
                </a:lnTo>
                <a:lnTo>
                  <a:pt x="128" y="2096"/>
                </a:lnTo>
                <a:lnTo>
                  <a:pt x="132" y="2139"/>
                </a:lnTo>
                <a:lnTo>
                  <a:pt x="139" y="2179"/>
                </a:lnTo>
                <a:lnTo>
                  <a:pt x="148" y="2217"/>
                </a:lnTo>
                <a:lnTo>
                  <a:pt x="160" y="2252"/>
                </a:lnTo>
                <a:lnTo>
                  <a:pt x="174" y="2285"/>
                </a:lnTo>
                <a:lnTo>
                  <a:pt x="190" y="2315"/>
                </a:lnTo>
                <a:lnTo>
                  <a:pt x="209" y="2342"/>
                </a:lnTo>
                <a:lnTo>
                  <a:pt x="229" y="2367"/>
                </a:lnTo>
                <a:lnTo>
                  <a:pt x="250" y="2389"/>
                </a:lnTo>
                <a:lnTo>
                  <a:pt x="273" y="2408"/>
                </a:lnTo>
                <a:lnTo>
                  <a:pt x="298" y="2425"/>
                </a:lnTo>
                <a:lnTo>
                  <a:pt x="322" y="2438"/>
                </a:lnTo>
                <a:lnTo>
                  <a:pt x="348" y="2449"/>
                </a:lnTo>
                <a:lnTo>
                  <a:pt x="374" y="2457"/>
                </a:lnTo>
                <a:lnTo>
                  <a:pt x="401" y="2463"/>
                </a:lnTo>
                <a:lnTo>
                  <a:pt x="427" y="2465"/>
                </a:lnTo>
                <a:lnTo>
                  <a:pt x="454" y="2465"/>
                </a:lnTo>
                <a:lnTo>
                  <a:pt x="480" y="2462"/>
                </a:lnTo>
                <a:lnTo>
                  <a:pt x="507" y="2456"/>
                </a:lnTo>
                <a:lnTo>
                  <a:pt x="532" y="2448"/>
                </a:lnTo>
                <a:lnTo>
                  <a:pt x="556" y="2436"/>
                </a:lnTo>
                <a:lnTo>
                  <a:pt x="580" y="2421"/>
                </a:lnTo>
                <a:lnTo>
                  <a:pt x="602" y="2404"/>
                </a:lnTo>
                <a:lnTo>
                  <a:pt x="624" y="2383"/>
                </a:lnTo>
                <a:lnTo>
                  <a:pt x="643" y="2360"/>
                </a:lnTo>
                <a:lnTo>
                  <a:pt x="660" y="2334"/>
                </a:lnTo>
                <a:lnTo>
                  <a:pt x="677" y="2305"/>
                </a:lnTo>
                <a:lnTo>
                  <a:pt x="690" y="2273"/>
                </a:lnTo>
                <a:lnTo>
                  <a:pt x="701" y="2237"/>
                </a:lnTo>
                <a:lnTo>
                  <a:pt x="710" y="2199"/>
                </a:lnTo>
                <a:lnTo>
                  <a:pt x="716" y="2158"/>
                </a:lnTo>
                <a:lnTo>
                  <a:pt x="719" y="2114"/>
                </a:lnTo>
                <a:lnTo>
                  <a:pt x="719" y="2099"/>
                </a:lnTo>
                <a:lnTo>
                  <a:pt x="719" y="2084"/>
                </a:lnTo>
                <a:lnTo>
                  <a:pt x="719" y="2069"/>
                </a:lnTo>
                <a:lnTo>
                  <a:pt x="719" y="2054"/>
                </a:lnTo>
                <a:lnTo>
                  <a:pt x="719" y="2039"/>
                </a:lnTo>
                <a:lnTo>
                  <a:pt x="719" y="2024"/>
                </a:lnTo>
                <a:lnTo>
                  <a:pt x="719" y="2009"/>
                </a:lnTo>
                <a:lnTo>
                  <a:pt x="719" y="1994"/>
                </a:lnTo>
                <a:lnTo>
                  <a:pt x="719" y="1979"/>
                </a:lnTo>
                <a:lnTo>
                  <a:pt x="719" y="1964"/>
                </a:lnTo>
                <a:lnTo>
                  <a:pt x="719" y="1949"/>
                </a:lnTo>
                <a:lnTo>
                  <a:pt x="719" y="1934"/>
                </a:lnTo>
                <a:lnTo>
                  <a:pt x="719" y="1920"/>
                </a:lnTo>
                <a:lnTo>
                  <a:pt x="719" y="1905"/>
                </a:lnTo>
                <a:lnTo>
                  <a:pt x="719" y="1890"/>
                </a:lnTo>
                <a:lnTo>
                  <a:pt x="719" y="1875"/>
                </a:lnTo>
                <a:lnTo>
                  <a:pt x="729" y="1872"/>
                </a:lnTo>
                <a:lnTo>
                  <a:pt x="738" y="1869"/>
                </a:lnTo>
                <a:lnTo>
                  <a:pt x="747" y="1867"/>
                </a:lnTo>
                <a:lnTo>
                  <a:pt x="755" y="1865"/>
                </a:lnTo>
                <a:lnTo>
                  <a:pt x="762" y="1864"/>
                </a:lnTo>
                <a:lnTo>
                  <a:pt x="769" y="1863"/>
                </a:lnTo>
                <a:lnTo>
                  <a:pt x="776" y="1862"/>
                </a:lnTo>
                <a:lnTo>
                  <a:pt x="783" y="1862"/>
                </a:lnTo>
                <a:lnTo>
                  <a:pt x="789" y="1862"/>
                </a:lnTo>
                <a:lnTo>
                  <a:pt x="796" y="1863"/>
                </a:lnTo>
                <a:lnTo>
                  <a:pt x="803" y="1864"/>
                </a:lnTo>
                <a:lnTo>
                  <a:pt x="810" y="1866"/>
                </a:lnTo>
                <a:lnTo>
                  <a:pt x="818" y="1868"/>
                </a:lnTo>
                <a:lnTo>
                  <a:pt x="826" y="1870"/>
                </a:lnTo>
                <a:lnTo>
                  <a:pt x="836" y="1872"/>
                </a:lnTo>
                <a:lnTo>
                  <a:pt x="845" y="1875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11560" y="474840"/>
            <a:ext cx="193680" cy="4551120"/>
          </a:xfrm>
          <a:custGeom>
            <a:avLst/>
            <a:gdLst/>
            <a:ahLst/>
            <a:rect l="l" t="t" r="r" b="b"/>
            <a:pathLst>
              <a:path w="122" h="2867">
                <a:moveTo>
                  <a:pt x="0" y="2865"/>
                </a:moveTo>
                <a:lnTo>
                  <a:pt x="2" y="0"/>
                </a:lnTo>
                <a:lnTo>
                  <a:pt x="121" y="0"/>
                </a:lnTo>
                <a:lnTo>
                  <a:pt x="121" y="88"/>
                </a:lnTo>
                <a:lnTo>
                  <a:pt x="121" y="177"/>
                </a:lnTo>
                <a:lnTo>
                  <a:pt x="121" y="265"/>
                </a:lnTo>
                <a:lnTo>
                  <a:pt x="121" y="354"/>
                </a:lnTo>
                <a:lnTo>
                  <a:pt x="121" y="443"/>
                </a:lnTo>
                <a:lnTo>
                  <a:pt x="121" y="533"/>
                </a:lnTo>
                <a:lnTo>
                  <a:pt x="120" y="622"/>
                </a:lnTo>
                <a:lnTo>
                  <a:pt x="120" y="712"/>
                </a:lnTo>
                <a:lnTo>
                  <a:pt x="120" y="802"/>
                </a:lnTo>
                <a:lnTo>
                  <a:pt x="120" y="891"/>
                </a:lnTo>
                <a:lnTo>
                  <a:pt x="120" y="982"/>
                </a:lnTo>
                <a:lnTo>
                  <a:pt x="120" y="1072"/>
                </a:lnTo>
                <a:lnTo>
                  <a:pt x="120" y="1163"/>
                </a:lnTo>
                <a:lnTo>
                  <a:pt x="120" y="1252"/>
                </a:lnTo>
                <a:lnTo>
                  <a:pt x="121" y="1343"/>
                </a:lnTo>
                <a:lnTo>
                  <a:pt x="121" y="1433"/>
                </a:lnTo>
                <a:lnTo>
                  <a:pt x="121" y="1524"/>
                </a:lnTo>
                <a:lnTo>
                  <a:pt x="121" y="1614"/>
                </a:lnTo>
                <a:lnTo>
                  <a:pt x="121" y="1704"/>
                </a:lnTo>
                <a:lnTo>
                  <a:pt x="121" y="1794"/>
                </a:lnTo>
                <a:lnTo>
                  <a:pt x="121" y="1885"/>
                </a:lnTo>
                <a:lnTo>
                  <a:pt x="121" y="1975"/>
                </a:lnTo>
                <a:lnTo>
                  <a:pt x="121" y="2065"/>
                </a:lnTo>
                <a:lnTo>
                  <a:pt x="121" y="2154"/>
                </a:lnTo>
                <a:lnTo>
                  <a:pt x="121" y="2244"/>
                </a:lnTo>
                <a:lnTo>
                  <a:pt x="121" y="2333"/>
                </a:lnTo>
                <a:lnTo>
                  <a:pt x="121" y="2423"/>
                </a:lnTo>
                <a:lnTo>
                  <a:pt x="121" y="2512"/>
                </a:lnTo>
                <a:lnTo>
                  <a:pt x="121" y="2601"/>
                </a:lnTo>
                <a:lnTo>
                  <a:pt x="120" y="2689"/>
                </a:lnTo>
                <a:lnTo>
                  <a:pt x="120" y="2778"/>
                </a:lnTo>
                <a:lnTo>
                  <a:pt x="120" y="2866"/>
                </a:lnTo>
                <a:lnTo>
                  <a:pt x="114" y="2862"/>
                </a:lnTo>
                <a:lnTo>
                  <a:pt x="109" y="2859"/>
                </a:lnTo>
                <a:lnTo>
                  <a:pt x="102" y="2856"/>
                </a:lnTo>
                <a:lnTo>
                  <a:pt x="94" y="2853"/>
                </a:lnTo>
                <a:lnTo>
                  <a:pt x="88" y="2851"/>
                </a:lnTo>
                <a:lnTo>
                  <a:pt x="80" y="2850"/>
                </a:lnTo>
                <a:lnTo>
                  <a:pt x="72" y="2848"/>
                </a:lnTo>
                <a:lnTo>
                  <a:pt x="65" y="2848"/>
                </a:lnTo>
                <a:lnTo>
                  <a:pt x="56" y="2848"/>
                </a:lnTo>
                <a:lnTo>
                  <a:pt x="48" y="2848"/>
                </a:lnTo>
                <a:lnTo>
                  <a:pt x="40" y="2849"/>
                </a:lnTo>
                <a:lnTo>
                  <a:pt x="32" y="2851"/>
                </a:lnTo>
                <a:lnTo>
                  <a:pt x="24" y="2854"/>
                </a:lnTo>
                <a:lnTo>
                  <a:pt x="15" y="2857"/>
                </a:lnTo>
                <a:lnTo>
                  <a:pt x="8" y="2861"/>
                </a:lnTo>
                <a:lnTo>
                  <a:pt x="0" y="2865"/>
                </a:ln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1560" y="474840"/>
            <a:ext cx="203400" cy="4560840"/>
          </a:xfrm>
          <a:custGeom>
            <a:avLst/>
            <a:gdLst/>
            <a:ahLst/>
            <a:rect l="l" t="t" r="r" b="b"/>
            <a:pathLst>
              <a:path w="128" h="2873">
                <a:moveTo>
                  <a:pt x="0" y="2871"/>
                </a:moveTo>
                <a:lnTo>
                  <a:pt x="2" y="0"/>
                </a:lnTo>
                <a:lnTo>
                  <a:pt x="127" y="0"/>
                </a:lnTo>
                <a:lnTo>
                  <a:pt x="127" y="88"/>
                </a:lnTo>
                <a:lnTo>
                  <a:pt x="127" y="177"/>
                </a:lnTo>
                <a:lnTo>
                  <a:pt x="127" y="266"/>
                </a:lnTo>
                <a:lnTo>
                  <a:pt x="127" y="355"/>
                </a:lnTo>
                <a:lnTo>
                  <a:pt x="127" y="444"/>
                </a:lnTo>
                <a:lnTo>
                  <a:pt x="127" y="534"/>
                </a:lnTo>
                <a:lnTo>
                  <a:pt x="126" y="623"/>
                </a:lnTo>
                <a:lnTo>
                  <a:pt x="126" y="713"/>
                </a:lnTo>
                <a:lnTo>
                  <a:pt x="126" y="804"/>
                </a:lnTo>
                <a:lnTo>
                  <a:pt x="126" y="893"/>
                </a:lnTo>
                <a:lnTo>
                  <a:pt x="126" y="984"/>
                </a:lnTo>
                <a:lnTo>
                  <a:pt x="126" y="1074"/>
                </a:lnTo>
                <a:lnTo>
                  <a:pt x="126" y="1165"/>
                </a:lnTo>
                <a:lnTo>
                  <a:pt x="126" y="1255"/>
                </a:lnTo>
                <a:lnTo>
                  <a:pt x="127" y="1346"/>
                </a:lnTo>
                <a:lnTo>
                  <a:pt x="127" y="1436"/>
                </a:lnTo>
                <a:lnTo>
                  <a:pt x="127" y="1527"/>
                </a:lnTo>
                <a:lnTo>
                  <a:pt x="127" y="1617"/>
                </a:lnTo>
                <a:lnTo>
                  <a:pt x="127" y="1708"/>
                </a:lnTo>
                <a:lnTo>
                  <a:pt x="127" y="1798"/>
                </a:lnTo>
                <a:lnTo>
                  <a:pt x="127" y="1889"/>
                </a:lnTo>
                <a:lnTo>
                  <a:pt x="127" y="1979"/>
                </a:lnTo>
                <a:lnTo>
                  <a:pt x="127" y="2069"/>
                </a:lnTo>
                <a:lnTo>
                  <a:pt x="127" y="2159"/>
                </a:lnTo>
                <a:lnTo>
                  <a:pt x="127" y="2249"/>
                </a:lnTo>
                <a:lnTo>
                  <a:pt x="127" y="2338"/>
                </a:lnTo>
                <a:lnTo>
                  <a:pt x="127" y="2428"/>
                </a:lnTo>
                <a:lnTo>
                  <a:pt x="127" y="2517"/>
                </a:lnTo>
                <a:lnTo>
                  <a:pt x="127" y="2606"/>
                </a:lnTo>
                <a:lnTo>
                  <a:pt x="126" y="2695"/>
                </a:lnTo>
                <a:lnTo>
                  <a:pt x="126" y="2784"/>
                </a:lnTo>
                <a:lnTo>
                  <a:pt x="126" y="2872"/>
                </a:lnTo>
                <a:lnTo>
                  <a:pt x="120" y="2868"/>
                </a:lnTo>
                <a:lnTo>
                  <a:pt x="114" y="2865"/>
                </a:lnTo>
                <a:lnTo>
                  <a:pt x="107" y="2862"/>
                </a:lnTo>
                <a:lnTo>
                  <a:pt x="99" y="2859"/>
                </a:lnTo>
                <a:lnTo>
                  <a:pt x="92" y="2857"/>
                </a:lnTo>
                <a:lnTo>
                  <a:pt x="84" y="2856"/>
                </a:lnTo>
                <a:lnTo>
                  <a:pt x="76" y="2854"/>
                </a:lnTo>
                <a:lnTo>
                  <a:pt x="68" y="2854"/>
                </a:lnTo>
                <a:lnTo>
                  <a:pt x="59" y="2854"/>
                </a:lnTo>
                <a:lnTo>
                  <a:pt x="50" y="2854"/>
                </a:lnTo>
                <a:lnTo>
                  <a:pt x="42" y="2855"/>
                </a:lnTo>
                <a:lnTo>
                  <a:pt x="34" y="2857"/>
                </a:lnTo>
                <a:lnTo>
                  <a:pt x="25" y="2860"/>
                </a:lnTo>
                <a:lnTo>
                  <a:pt x="16" y="2863"/>
                </a:lnTo>
                <a:lnTo>
                  <a:pt x="8" y="2867"/>
                </a:lnTo>
                <a:lnTo>
                  <a:pt x="0" y="287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47720" y="723960"/>
            <a:ext cx="1521000" cy="3198600"/>
          </a:xfrm>
          <a:custGeom>
            <a:avLst/>
            <a:gdLst/>
            <a:ahLst/>
            <a:rect l="l" t="t" r="r" b="b"/>
            <a:pathLst>
              <a:path w="958" h="2015">
                <a:moveTo>
                  <a:pt x="831" y="847"/>
                </a:moveTo>
                <a:lnTo>
                  <a:pt x="830" y="672"/>
                </a:lnTo>
                <a:lnTo>
                  <a:pt x="830" y="666"/>
                </a:lnTo>
                <a:lnTo>
                  <a:pt x="830" y="660"/>
                </a:lnTo>
                <a:lnTo>
                  <a:pt x="830" y="653"/>
                </a:lnTo>
                <a:lnTo>
                  <a:pt x="830" y="647"/>
                </a:lnTo>
                <a:lnTo>
                  <a:pt x="830" y="640"/>
                </a:lnTo>
                <a:lnTo>
                  <a:pt x="830" y="634"/>
                </a:lnTo>
                <a:lnTo>
                  <a:pt x="830" y="627"/>
                </a:lnTo>
                <a:lnTo>
                  <a:pt x="831" y="620"/>
                </a:lnTo>
                <a:lnTo>
                  <a:pt x="831" y="614"/>
                </a:lnTo>
                <a:lnTo>
                  <a:pt x="831" y="608"/>
                </a:lnTo>
                <a:lnTo>
                  <a:pt x="831" y="602"/>
                </a:lnTo>
                <a:lnTo>
                  <a:pt x="831" y="596"/>
                </a:lnTo>
                <a:lnTo>
                  <a:pt x="831" y="590"/>
                </a:lnTo>
                <a:lnTo>
                  <a:pt x="831" y="585"/>
                </a:lnTo>
                <a:lnTo>
                  <a:pt x="831" y="580"/>
                </a:lnTo>
                <a:lnTo>
                  <a:pt x="831" y="575"/>
                </a:lnTo>
                <a:lnTo>
                  <a:pt x="827" y="518"/>
                </a:lnTo>
                <a:lnTo>
                  <a:pt x="819" y="467"/>
                </a:lnTo>
                <a:lnTo>
                  <a:pt x="808" y="418"/>
                </a:lnTo>
                <a:lnTo>
                  <a:pt x="795" y="373"/>
                </a:lnTo>
                <a:lnTo>
                  <a:pt x="778" y="332"/>
                </a:lnTo>
                <a:lnTo>
                  <a:pt x="759" y="294"/>
                </a:lnTo>
                <a:lnTo>
                  <a:pt x="737" y="260"/>
                </a:lnTo>
                <a:lnTo>
                  <a:pt x="715" y="230"/>
                </a:lnTo>
                <a:lnTo>
                  <a:pt x="690" y="204"/>
                </a:lnTo>
                <a:lnTo>
                  <a:pt x="664" y="181"/>
                </a:lnTo>
                <a:lnTo>
                  <a:pt x="635" y="163"/>
                </a:lnTo>
                <a:lnTo>
                  <a:pt x="606" y="147"/>
                </a:lnTo>
                <a:lnTo>
                  <a:pt x="576" y="135"/>
                </a:lnTo>
                <a:lnTo>
                  <a:pt x="547" y="127"/>
                </a:lnTo>
                <a:lnTo>
                  <a:pt x="515" y="123"/>
                </a:lnTo>
                <a:lnTo>
                  <a:pt x="484" y="121"/>
                </a:lnTo>
                <a:lnTo>
                  <a:pt x="453" y="124"/>
                </a:lnTo>
                <a:lnTo>
                  <a:pt x="423" y="129"/>
                </a:lnTo>
                <a:lnTo>
                  <a:pt x="393" y="139"/>
                </a:lnTo>
                <a:lnTo>
                  <a:pt x="364" y="152"/>
                </a:lnTo>
                <a:lnTo>
                  <a:pt x="336" y="168"/>
                </a:lnTo>
                <a:lnTo>
                  <a:pt x="308" y="188"/>
                </a:lnTo>
                <a:lnTo>
                  <a:pt x="282" y="211"/>
                </a:lnTo>
                <a:lnTo>
                  <a:pt x="258" y="238"/>
                </a:lnTo>
                <a:lnTo>
                  <a:pt x="237" y="268"/>
                </a:lnTo>
                <a:lnTo>
                  <a:pt x="217" y="302"/>
                </a:lnTo>
                <a:lnTo>
                  <a:pt x="199" y="339"/>
                </a:lnTo>
                <a:lnTo>
                  <a:pt x="184" y="380"/>
                </a:lnTo>
                <a:lnTo>
                  <a:pt x="172" y="424"/>
                </a:lnTo>
                <a:lnTo>
                  <a:pt x="163" y="471"/>
                </a:lnTo>
                <a:lnTo>
                  <a:pt x="157" y="521"/>
                </a:lnTo>
                <a:lnTo>
                  <a:pt x="155" y="575"/>
                </a:lnTo>
                <a:lnTo>
                  <a:pt x="155" y="600"/>
                </a:lnTo>
                <a:lnTo>
                  <a:pt x="155" y="626"/>
                </a:lnTo>
                <a:lnTo>
                  <a:pt x="155" y="652"/>
                </a:lnTo>
                <a:lnTo>
                  <a:pt x="155" y="677"/>
                </a:lnTo>
                <a:lnTo>
                  <a:pt x="155" y="703"/>
                </a:lnTo>
                <a:lnTo>
                  <a:pt x="155" y="729"/>
                </a:lnTo>
                <a:lnTo>
                  <a:pt x="155" y="754"/>
                </a:lnTo>
                <a:lnTo>
                  <a:pt x="155" y="779"/>
                </a:lnTo>
                <a:lnTo>
                  <a:pt x="155" y="805"/>
                </a:lnTo>
                <a:lnTo>
                  <a:pt x="155" y="831"/>
                </a:lnTo>
                <a:lnTo>
                  <a:pt x="155" y="856"/>
                </a:lnTo>
                <a:lnTo>
                  <a:pt x="155" y="881"/>
                </a:lnTo>
                <a:lnTo>
                  <a:pt x="155" y="907"/>
                </a:lnTo>
                <a:lnTo>
                  <a:pt x="155" y="932"/>
                </a:lnTo>
                <a:lnTo>
                  <a:pt x="155" y="958"/>
                </a:lnTo>
                <a:lnTo>
                  <a:pt x="155" y="983"/>
                </a:lnTo>
                <a:lnTo>
                  <a:pt x="155" y="1009"/>
                </a:lnTo>
                <a:lnTo>
                  <a:pt x="155" y="1035"/>
                </a:lnTo>
                <a:lnTo>
                  <a:pt x="155" y="1060"/>
                </a:lnTo>
                <a:lnTo>
                  <a:pt x="155" y="1086"/>
                </a:lnTo>
                <a:lnTo>
                  <a:pt x="155" y="1111"/>
                </a:lnTo>
                <a:lnTo>
                  <a:pt x="155" y="1137"/>
                </a:lnTo>
                <a:lnTo>
                  <a:pt x="155" y="1163"/>
                </a:lnTo>
                <a:lnTo>
                  <a:pt x="155" y="1187"/>
                </a:lnTo>
                <a:lnTo>
                  <a:pt x="155" y="1213"/>
                </a:lnTo>
                <a:lnTo>
                  <a:pt x="155" y="1238"/>
                </a:lnTo>
                <a:lnTo>
                  <a:pt x="155" y="1264"/>
                </a:lnTo>
                <a:lnTo>
                  <a:pt x="155" y="1289"/>
                </a:lnTo>
                <a:lnTo>
                  <a:pt x="155" y="1315"/>
                </a:lnTo>
                <a:lnTo>
                  <a:pt x="155" y="1341"/>
                </a:lnTo>
                <a:lnTo>
                  <a:pt x="155" y="1367"/>
                </a:lnTo>
                <a:lnTo>
                  <a:pt x="155" y="1392"/>
                </a:lnTo>
                <a:lnTo>
                  <a:pt x="155" y="1873"/>
                </a:lnTo>
                <a:lnTo>
                  <a:pt x="156" y="1882"/>
                </a:lnTo>
                <a:lnTo>
                  <a:pt x="157" y="1891"/>
                </a:lnTo>
                <a:lnTo>
                  <a:pt x="158" y="1899"/>
                </a:lnTo>
                <a:lnTo>
                  <a:pt x="159" y="1906"/>
                </a:lnTo>
                <a:lnTo>
                  <a:pt x="160" y="1913"/>
                </a:lnTo>
                <a:lnTo>
                  <a:pt x="161" y="1919"/>
                </a:lnTo>
                <a:lnTo>
                  <a:pt x="163" y="1925"/>
                </a:lnTo>
                <a:lnTo>
                  <a:pt x="164" y="1930"/>
                </a:lnTo>
                <a:lnTo>
                  <a:pt x="166" y="1935"/>
                </a:lnTo>
                <a:lnTo>
                  <a:pt x="168" y="1940"/>
                </a:lnTo>
                <a:lnTo>
                  <a:pt x="170" y="1944"/>
                </a:lnTo>
                <a:lnTo>
                  <a:pt x="171" y="1949"/>
                </a:lnTo>
                <a:lnTo>
                  <a:pt x="174" y="1954"/>
                </a:lnTo>
                <a:lnTo>
                  <a:pt x="176" y="1958"/>
                </a:lnTo>
                <a:lnTo>
                  <a:pt x="179" y="1963"/>
                </a:lnTo>
                <a:lnTo>
                  <a:pt x="182" y="1969"/>
                </a:lnTo>
                <a:lnTo>
                  <a:pt x="185" y="1974"/>
                </a:lnTo>
                <a:lnTo>
                  <a:pt x="187" y="1980"/>
                </a:lnTo>
                <a:lnTo>
                  <a:pt x="189" y="1984"/>
                </a:lnTo>
                <a:lnTo>
                  <a:pt x="190" y="1988"/>
                </a:lnTo>
                <a:lnTo>
                  <a:pt x="191" y="1992"/>
                </a:lnTo>
                <a:lnTo>
                  <a:pt x="190" y="1996"/>
                </a:lnTo>
                <a:lnTo>
                  <a:pt x="188" y="1999"/>
                </a:lnTo>
                <a:lnTo>
                  <a:pt x="185" y="2002"/>
                </a:lnTo>
                <a:lnTo>
                  <a:pt x="180" y="2004"/>
                </a:lnTo>
                <a:lnTo>
                  <a:pt x="174" y="2007"/>
                </a:lnTo>
                <a:lnTo>
                  <a:pt x="165" y="2008"/>
                </a:lnTo>
                <a:lnTo>
                  <a:pt x="156" y="2010"/>
                </a:lnTo>
                <a:lnTo>
                  <a:pt x="144" y="2011"/>
                </a:lnTo>
                <a:lnTo>
                  <a:pt x="129" y="2012"/>
                </a:lnTo>
                <a:lnTo>
                  <a:pt x="112" y="2013"/>
                </a:lnTo>
                <a:lnTo>
                  <a:pt x="93" y="2014"/>
                </a:lnTo>
                <a:lnTo>
                  <a:pt x="75" y="2014"/>
                </a:lnTo>
                <a:lnTo>
                  <a:pt x="58" y="2014"/>
                </a:lnTo>
                <a:lnTo>
                  <a:pt x="44" y="2013"/>
                </a:lnTo>
                <a:lnTo>
                  <a:pt x="32" y="2012"/>
                </a:lnTo>
                <a:lnTo>
                  <a:pt x="22" y="2011"/>
                </a:lnTo>
                <a:lnTo>
                  <a:pt x="15" y="2009"/>
                </a:lnTo>
                <a:lnTo>
                  <a:pt x="9" y="2007"/>
                </a:lnTo>
                <a:lnTo>
                  <a:pt x="5" y="2004"/>
                </a:lnTo>
                <a:lnTo>
                  <a:pt x="2" y="2002"/>
                </a:lnTo>
                <a:lnTo>
                  <a:pt x="1" y="1999"/>
                </a:lnTo>
                <a:lnTo>
                  <a:pt x="0" y="1995"/>
                </a:lnTo>
                <a:lnTo>
                  <a:pt x="1" y="1992"/>
                </a:lnTo>
                <a:lnTo>
                  <a:pt x="2" y="1987"/>
                </a:lnTo>
                <a:lnTo>
                  <a:pt x="5" y="1983"/>
                </a:lnTo>
                <a:lnTo>
                  <a:pt x="7" y="1978"/>
                </a:lnTo>
                <a:lnTo>
                  <a:pt x="10" y="1973"/>
                </a:lnTo>
                <a:lnTo>
                  <a:pt x="13" y="1967"/>
                </a:lnTo>
                <a:lnTo>
                  <a:pt x="16" y="1962"/>
                </a:lnTo>
                <a:lnTo>
                  <a:pt x="19" y="1957"/>
                </a:lnTo>
                <a:lnTo>
                  <a:pt x="21" y="1952"/>
                </a:lnTo>
                <a:lnTo>
                  <a:pt x="23" y="1947"/>
                </a:lnTo>
                <a:lnTo>
                  <a:pt x="25" y="1943"/>
                </a:lnTo>
                <a:lnTo>
                  <a:pt x="27" y="1938"/>
                </a:lnTo>
                <a:lnTo>
                  <a:pt x="28" y="1933"/>
                </a:lnTo>
                <a:lnTo>
                  <a:pt x="29" y="1928"/>
                </a:lnTo>
                <a:lnTo>
                  <a:pt x="31" y="1923"/>
                </a:lnTo>
                <a:lnTo>
                  <a:pt x="32" y="1916"/>
                </a:lnTo>
                <a:lnTo>
                  <a:pt x="33" y="1910"/>
                </a:lnTo>
                <a:lnTo>
                  <a:pt x="35" y="1902"/>
                </a:lnTo>
                <a:lnTo>
                  <a:pt x="35" y="1894"/>
                </a:lnTo>
                <a:lnTo>
                  <a:pt x="36" y="1886"/>
                </a:lnTo>
                <a:lnTo>
                  <a:pt x="37" y="1876"/>
                </a:lnTo>
                <a:lnTo>
                  <a:pt x="37" y="1395"/>
                </a:lnTo>
                <a:lnTo>
                  <a:pt x="37" y="1389"/>
                </a:lnTo>
                <a:lnTo>
                  <a:pt x="37" y="1379"/>
                </a:lnTo>
                <a:lnTo>
                  <a:pt x="37" y="1365"/>
                </a:lnTo>
                <a:lnTo>
                  <a:pt x="37" y="1348"/>
                </a:lnTo>
                <a:lnTo>
                  <a:pt x="37" y="1329"/>
                </a:lnTo>
                <a:lnTo>
                  <a:pt x="37" y="1306"/>
                </a:lnTo>
                <a:lnTo>
                  <a:pt x="37" y="1281"/>
                </a:lnTo>
                <a:lnTo>
                  <a:pt x="37" y="1254"/>
                </a:lnTo>
                <a:lnTo>
                  <a:pt x="37" y="1225"/>
                </a:lnTo>
                <a:lnTo>
                  <a:pt x="37" y="1195"/>
                </a:lnTo>
                <a:lnTo>
                  <a:pt x="37" y="1164"/>
                </a:lnTo>
                <a:lnTo>
                  <a:pt x="37" y="1130"/>
                </a:lnTo>
                <a:lnTo>
                  <a:pt x="37" y="1096"/>
                </a:lnTo>
                <a:lnTo>
                  <a:pt x="37" y="1061"/>
                </a:lnTo>
                <a:lnTo>
                  <a:pt x="37" y="1025"/>
                </a:lnTo>
                <a:lnTo>
                  <a:pt x="37" y="989"/>
                </a:lnTo>
                <a:lnTo>
                  <a:pt x="37" y="953"/>
                </a:lnTo>
                <a:lnTo>
                  <a:pt x="37" y="918"/>
                </a:lnTo>
                <a:lnTo>
                  <a:pt x="37" y="883"/>
                </a:lnTo>
                <a:lnTo>
                  <a:pt x="37" y="849"/>
                </a:lnTo>
                <a:lnTo>
                  <a:pt x="37" y="816"/>
                </a:lnTo>
                <a:lnTo>
                  <a:pt x="37" y="784"/>
                </a:lnTo>
                <a:lnTo>
                  <a:pt x="37" y="753"/>
                </a:lnTo>
                <a:lnTo>
                  <a:pt x="37" y="724"/>
                </a:lnTo>
                <a:lnTo>
                  <a:pt x="37" y="697"/>
                </a:lnTo>
                <a:lnTo>
                  <a:pt x="37" y="672"/>
                </a:lnTo>
                <a:lnTo>
                  <a:pt x="37" y="650"/>
                </a:lnTo>
                <a:lnTo>
                  <a:pt x="37" y="630"/>
                </a:lnTo>
                <a:lnTo>
                  <a:pt x="37" y="614"/>
                </a:lnTo>
                <a:lnTo>
                  <a:pt x="37" y="600"/>
                </a:lnTo>
                <a:lnTo>
                  <a:pt x="37" y="589"/>
                </a:lnTo>
                <a:lnTo>
                  <a:pt x="37" y="583"/>
                </a:lnTo>
                <a:lnTo>
                  <a:pt x="40" y="513"/>
                </a:lnTo>
                <a:lnTo>
                  <a:pt x="48" y="449"/>
                </a:lnTo>
                <a:lnTo>
                  <a:pt x="61" y="388"/>
                </a:lnTo>
                <a:lnTo>
                  <a:pt x="78" y="332"/>
                </a:lnTo>
                <a:lnTo>
                  <a:pt x="99" y="279"/>
                </a:lnTo>
                <a:lnTo>
                  <a:pt x="123" y="232"/>
                </a:lnTo>
                <a:lnTo>
                  <a:pt x="152" y="188"/>
                </a:lnTo>
                <a:lnTo>
                  <a:pt x="183" y="151"/>
                </a:lnTo>
                <a:lnTo>
                  <a:pt x="217" y="116"/>
                </a:lnTo>
                <a:lnTo>
                  <a:pt x="252" y="86"/>
                </a:lnTo>
                <a:lnTo>
                  <a:pt x="290" y="60"/>
                </a:lnTo>
                <a:lnTo>
                  <a:pt x="330" y="40"/>
                </a:lnTo>
                <a:lnTo>
                  <a:pt x="371" y="23"/>
                </a:lnTo>
                <a:lnTo>
                  <a:pt x="413" y="11"/>
                </a:lnTo>
                <a:lnTo>
                  <a:pt x="456" y="3"/>
                </a:lnTo>
                <a:lnTo>
                  <a:pt x="499" y="0"/>
                </a:lnTo>
                <a:lnTo>
                  <a:pt x="542" y="1"/>
                </a:lnTo>
                <a:lnTo>
                  <a:pt x="584" y="7"/>
                </a:lnTo>
                <a:lnTo>
                  <a:pt x="626" y="18"/>
                </a:lnTo>
                <a:lnTo>
                  <a:pt x="668" y="32"/>
                </a:lnTo>
                <a:lnTo>
                  <a:pt x="707" y="52"/>
                </a:lnTo>
                <a:lnTo>
                  <a:pt x="744" y="76"/>
                </a:lnTo>
                <a:lnTo>
                  <a:pt x="780" y="105"/>
                </a:lnTo>
                <a:lnTo>
                  <a:pt x="814" y="138"/>
                </a:lnTo>
                <a:lnTo>
                  <a:pt x="845" y="175"/>
                </a:lnTo>
                <a:lnTo>
                  <a:pt x="873" y="217"/>
                </a:lnTo>
                <a:lnTo>
                  <a:pt x="897" y="264"/>
                </a:lnTo>
                <a:lnTo>
                  <a:pt x="917" y="315"/>
                </a:lnTo>
                <a:lnTo>
                  <a:pt x="934" y="371"/>
                </a:lnTo>
                <a:lnTo>
                  <a:pt x="947" y="433"/>
                </a:lnTo>
                <a:lnTo>
                  <a:pt x="954" y="498"/>
                </a:lnTo>
                <a:lnTo>
                  <a:pt x="957" y="567"/>
                </a:lnTo>
                <a:lnTo>
                  <a:pt x="957" y="584"/>
                </a:lnTo>
                <a:lnTo>
                  <a:pt x="957" y="601"/>
                </a:lnTo>
                <a:lnTo>
                  <a:pt x="957" y="616"/>
                </a:lnTo>
                <a:lnTo>
                  <a:pt x="957" y="631"/>
                </a:lnTo>
                <a:lnTo>
                  <a:pt x="957" y="646"/>
                </a:lnTo>
                <a:lnTo>
                  <a:pt x="957" y="661"/>
                </a:lnTo>
                <a:lnTo>
                  <a:pt x="957" y="676"/>
                </a:lnTo>
                <a:lnTo>
                  <a:pt x="957" y="691"/>
                </a:lnTo>
                <a:lnTo>
                  <a:pt x="957" y="707"/>
                </a:lnTo>
                <a:lnTo>
                  <a:pt x="957" y="723"/>
                </a:lnTo>
                <a:lnTo>
                  <a:pt x="957" y="740"/>
                </a:lnTo>
                <a:lnTo>
                  <a:pt x="957" y="759"/>
                </a:lnTo>
                <a:lnTo>
                  <a:pt x="957" y="778"/>
                </a:lnTo>
                <a:lnTo>
                  <a:pt x="957" y="800"/>
                </a:lnTo>
                <a:lnTo>
                  <a:pt x="957" y="823"/>
                </a:lnTo>
                <a:lnTo>
                  <a:pt x="957" y="847"/>
                </a:lnTo>
                <a:lnTo>
                  <a:pt x="948" y="844"/>
                </a:lnTo>
                <a:lnTo>
                  <a:pt x="940" y="842"/>
                </a:lnTo>
                <a:lnTo>
                  <a:pt x="932" y="839"/>
                </a:lnTo>
                <a:lnTo>
                  <a:pt x="924" y="839"/>
                </a:lnTo>
                <a:lnTo>
                  <a:pt x="917" y="838"/>
                </a:lnTo>
                <a:lnTo>
                  <a:pt x="910" y="836"/>
                </a:lnTo>
                <a:lnTo>
                  <a:pt x="903" y="836"/>
                </a:lnTo>
                <a:lnTo>
                  <a:pt x="895" y="835"/>
                </a:lnTo>
                <a:lnTo>
                  <a:pt x="889" y="835"/>
                </a:lnTo>
                <a:lnTo>
                  <a:pt x="881" y="836"/>
                </a:lnTo>
                <a:lnTo>
                  <a:pt x="875" y="837"/>
                </a:lnTo>
                <a:lnTo>
                  <a:pt x="867" y="838"/>
                </a:lnTo>
                <a:lnTo>
                  <a:pt x="858" y="839"/>
                </a:lnTo>
                <a:lnTo>
                  <a:pt x="850" y="841"/>
                </a:lnTo>
                <a:lnTo>
                  <a:pt x="841" y="844"/>
                </a:lnTo>
                <a:lnTo>
                  <a:pt x="831" y="847"/>
                </a:ln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47720" y="723960"/>
            <a:ext cx="1530360" cy="3208320"/>
          </a:xfrm>
          <a:custGeom>
            <a:avLst/>
            <a:gdLst/>
            <a:ahLst/>
            <a:rect l="l" t="t" r="r" b="b"/>
            <a:pathLst>
              <a:path w="964" h="2021">
                <a:moveTo>
                  <a:pt x="836" y="850"/>
                </a:moveTo>
                <a:lnTo>
                  <a:pt x="835" y="674"/>
                </a:lnTo>
                <a:lnTo>
                  <a:pt x="835" y="668"/>
                </a:lnTo>
                <a:lnTo>
                  <a:pt x="835" y="662"/>
                </a:lnTo>
                <a:lnTo>
                  <a:pt x="835" y="655"/>
                </a:lnTo>
                <a:lnTo>
                  <a:pt x="835" y="649"/>
                </a:lnTo>
                <a:lnTo>
                  <a:pt x="835" y="642"/>
                </a:lnTo>
                <a:lnTo>
                  <a:pt x="835" y="636"/>
                </a:lnTo>
                <a:lnTo>
                  <a:pt x="835" y="629"/>
                </a:lnTo>
                <a:lnTo>
                  <a:pt x="836" y="622"/>
                </a:lnTo>
                <a:lnTo>
                  <a:pt x="836" y="616"/>
                </a:lnTo>
                <a:lnTo>
                  <a:pt x="836" y="610"/>
                </a:lnTo>
                <a:lnTo>
                  <a:pt x="836" y="604"/>
                </a:lnTo>
                <a:lnTo>
                  <a:pt x="836" y="598"/>
                </a:lnTo>
                <a:lnTo>
                  <a:pt x="836" y="592"/>
                </a:lnTo>
                <a:lnTo>
                  <a:pt x="836" y="587"/>
                </a:lnTo>
                <a:lnTo>
                  <a:pt x="836" y="582"/>
                </a:lnTo>
                <a:lnTo>
                  <a:pt x="836" y="577"/>
                </a:lnTo>
                <a:lnTo>
                  <a:pt x="832" y="520"/>
                </a:lnTo>
                <a:lnTo>
                  <a:pt x="824" y="468"/>
                </a:lnTo>
                <a:lnTo>
                  <a:pt x="813" y="419"/>
                </a:lnTo>
                <a:lnTo>
                  <a:pt x="800" y="374"/>
                </a:lnTo>
                <a:lnTo>
                  <a:pt x="783" y="333"/>
                </a:lnTo>
                <a:lnTo>
                  <a:pt x="764" y="295"/>
                </a:lnTo>
                <a:lnTo>
                  <a:pt x="742" y="261"/>
                </a:lnTo>
                <a:lnTo>
                  <a:pt x="719" y="231"/>
                </a:lnTo>
                <a:lnTo>
                  <a:pt x="694" y="205"/>
                </a:lnTo>
                <a:lnTo>
                  <a:pt x="668" y="182"/>
                </a:lnTo>
                <a:lnTo>
                  <a:pt x="639" y="163"/>
                </a:lnTo>
                <a:lnTo>
                  <a:pt x="610" y="147"/>
                </a:lnTo>
                <a:lnTo>
                  <a:pt x="580" y="135"/>
                </a:lnTo>
                <a:lnTo>
                  <a:pt x="550" y="127"/>
                </a:lnTo>
                <a:lnTo>
                  <a:pt x="518" y="123"/>
                </a:lnTo>
                <a:lnTo>
                  <a:pt x="487" y="121"/>
                </a:lnTo>
                <a:lnTo>
                  <a:pt x="456" y="124"/>
                </a:lnTo>
                <a:lnTo>
                  <a:pt x="426" y="129"/>
                </a:lnTo>
                <a:lnTo>
                  <a:pt x="395" y="139"/>
                </a:lnTo>
                <a:lnTo>
                  <a:pt x="366" y="152"/>
                </a:lnTo>
                <a:lnTo>
                  <a:pt x="338" y="169"/>
                </a:lnTo>
                <a:lnTo>
                  <a:pt x="310" y="189"/>
                </a:lnTo>
                <a:lnTo>
                  <a:pt x="284" y="212"/>
                </a:lnTo>
                <a:lnTo>
                  <a:pt x="260" y="239"/>
                </a:lnTo>
                <a:lnTo>
                  <a:pt x="238" y="269"/>
                </a:lnTo>
                <a:lnTo>
                  <a:pt x="218" y="303"/>
                </a:lnTo>
                <a:lnTo>
                  <a:pt x="200" y="340"/>
                </a:lnTo>
                <a:lnTo>
                  <a:pt x="185" y="381"/>
                </a:lnTo>
                <a:lnTo>
                  <a:pt x="173" y="425"/>
                </a:lnTo>
                <a:lnTo>
                  <a:pt x="164" y="472"/>
                </a:lnTo>
                <a:lnTo>
                  <a:pt x="158" y="523"/>
                </a:lnTo>
                <a:lnTo>
                  <a:pt x="156" y="577"/>
                </a:lnTo>
                <a:lnTo>
                  <a:pt x="156" y="602"/>
                </a:lnTo>
                <a:lnTo>
                  <a:pt x="156" y="628"/>
                </a:lnTo>
                <a:lnTo>
                  <a:pt x="156" y="654"/>
                </a:lnTo>
                <a:lnTo>
                  <a:pt x="156" y="679"/>
                </a:lnTo>
                <a:lnTo>
                  <a:pt x="156" y="705"/>
                </a:lnTo>
                <a:lnTo>
                  <a:pt x="156" y="731"/>
                </a:lnTo>
                <a:lnTo>
                  <a:pt x="156" y="756"/>
                </a:lnTo>
                <a:lnTo>
                  <a:pt x="156" y="781"/>
                </a:lnTo>
                <a:lnTo>
                  <a:pt x="156" y="807"/>
                </a:lnTo>
                <a:lnTo>
                  <a:pt x="156" y="833"/>
                </a:lnTo>
                <a:lnTo>
                  <a:pt x="156" y="859"/>
                </a:lnTo>
                <a:lnTo>
                  <a:pt x="156" y="884"/>
                </a:lnTo>
                <a:lnTo>
                  <a:pt x="156" y="910"/>
                </a:lnTo>
                <a:lnTo>
                  <a:pt x="156" y="935"/>
                </a:lnTo>
                <a:lnTo>
                  <a:pt x="156" y="961"/>
                </a:lnTo>
                <a:lnTo>
                  <a:pt x="156" y="986"/>
                </a:lnTo>
                <a:lnTo>
                  <a:pt x="156" y="1012"/>
                </a:lnTo>
                <a:lnTo>
                  <a:pt x="156" y="1038"/>
                </a:lnTo>
                <a:lnTo>
                  <a:pt x="156" y="1063"/>
                </a:lnTo>
                <a:lnTo>
                  <a:pt x="156" y="1089"/>
                </a:lnTo>
                <a:lnTo>
                  <a:pt x="156" y="1114"/>
                </a:lnTo>
                <a:lnTo>
                  <a:pt x="156" y="1140"/>
                </a:lnTo>
                <a:lnTo>
                  <a:pt x="156" y="1166"/>
                </a:lnTo>
                <a:lnTo>
                  <a:pt x="156" y="1191"/>
                </a:lnTo>
                <a:lnTo>
                  <a:pt x="156" y="1217"/>
                </a:lnTo>
                <a:lnTo>
                  <a:pt x="156" y="1242"/>
                </a:lnTo>
                <a:lnTo>
                  <a:pt x="156" y="1268"/>
                </a:lnTo>
                <a:lnTo>
                  <a:pt x="156" y="1293"/>
                </a:lnTo>
                <a:lnTo>
                  <a:pt x="156" y="1319"/>
                </a:lnTo>
                <a:lnTo>
                  <a:pt x="156" y="1345"/>
                </a:lnTo>
                <a:lnTo>
                  <a:pt x="156" y="1371"/>
                </a:lnTo>
                <a:lnTo>
                  <a:pt x="156" y="1396"/>
                </a:lnTo>
                <a:lnTo>
                  <a:pt x="156" y="1879"/>
                </a:lnTo>
                <a:lnTo>
                  <a:pt x="157" y="1888"/>
                </a:lnTo>
                <a:lnTo>
                  <a:pt x="158" y="1897"/>
                </a:lnTo>
                <a:lnTo>
                  <a:pt x="159" y="1905"/>
                </a:lnTo>
                <a:lnTo>
                  <a:pt x="160" y="1912"/>
                </a:lnTo>
                <a:lnTo>
                  <a:pt x="161" y="1919"/>
                </a:lnTo>
                <a:lnTo>
                  <a:pt x="162" y="1925"/>
                </a:lnTo>
                <a:lnTo>
                  <a:pt x="164" y="1931"/>
                </a:lnTo>
                <a:lnTo>
                  <a:pt x="165" y="1936"/>
                </a:lnTo>
                <a:lnTo>
                  <a:pt x="167" y="1941"/>
                </a:lnTo>
                <a:lnTo>
                  <a:pt x="169" y="1946"/>
                </a:lnTo>
                <a:lnTo>
                  <a:pt x="171" y="1950"/>
                </a:lnTo>
                <a:lnTo>
                  <a:pt x="172" y="1955"/>
                </a:lnTo>
                <a:lnTo>
                  <a:pt x="175" y="1960"/>
                </a:lnTo>
                <a:lnTo>
                  <a:pt x="177" y="1964"/>
                </a:lnTo>
                <a:lnTo>
                  <a:pt x="180" y="1969"/>
                </a:lnTo>
                <a:lnTo>
                  <a:pt x="183" y="1975"/>
                </a:lnTo>
                <a:lnTo>
                  <a:pt x="186" y="1980"/>
                </a:lnTo>
                <a:lnTo>
                  <a:pt x="188" y="1986"/>
                </a:lnTo>
                <a:lnTo>
                  <a:pt x="190" y="1990"/>
                </a:lnTo>
                <a:lnTo>
                  <a:pt x="191" y="1994"/>
                </a:lnTo>
                <a:lnTo>
                  <a:pt x="192" y="1998"/>
                </a:lnTo>
                <a:lnTo>
                  <a:pt x="191" y="2002"/>
                </a:lnTo>
                <a:lnTo>
                  <a:pt x="189" y="2005"/>
                </a:lnTo>
                <a:lnTo>
                  <a:pt x="186" y="2008"/>
                </a:lnTo>
                <a:lnTo>
                  <a:pt x="181" y="2010"/>
                </a:lnTo>
                <a:lnTo>
                  <a:pt x="175" y="2013"/>
                </a:lnTo>
                <a:lnTo>
                  <a:pt x="166" y="2014"/>
                </a:lnTo>
                <a:lnTo>
                  <a:pt x="157" y="2016"/>
                </a:lnTo>
                <a:lnTo>
                  <a:pt x="145" y="2017"/>
                </a:lnTo>
                <a:lnTo>
                  <a:pt x="130" y="2018"/>
                </a:lnTo>
                <a:lnTo>
                  <a:pt x="113" y="2019"/>
                </a:lnTo>
                <a:lnTo>
                  <a:pt x="94" y="2020"/>
                </a:lnTo>
                <a:lnTo>
                  <a:pt x="75" y="2020"/>
                </a:lnTo>
                <a:lnTo>
                  <a:pt x="58" y="2020"/>
                </a:lnTo>
                <a:lnTo>
                  <a:pt x="44" y="2019"/>
                </a:lnTo>
                <a:lnTo>
                  <a:pt x="32" y="2018"/>
                </a:lnTo>
                <a:lnTo>
                  <a:pt x="22" y="2017"/>
                </a:lnTo>
                <a:lnTo>
                  <a:pt x="15" y="2015"/>
                </a:lnTo>
                <a:lnTo>
                  <a:pt x="9" y="2013"/>
                </a:lnTo>
                <a:lnTo>
                  <a:pt x="5" y="2010"/>
                </a:lnTo>
                <a:lnTo>
                  <a:pt x="2" y="2008"/>
                </a:lnTo>
                <a:lnTo>
                  <a:pt x="1" y="2005"/>
                </a:lnTo>
                <a:lnTo>
                  <a:pt x="0" y="2001"/>
                </a:lnTo>
                <a:lnTo>
                  <a:pt x="1" y="1998"/>
                </a:lnTo>
                <a:lnTo>
                  <a:pt x="2" y="1993"/>
                </a:lnTo>
                <a:lnTo>
                  <a:pt x="5" y="1989"/>
                </a:lnTo>
                <a:lnTo>
                  <a:pt x="7" y="1984"/>
                </a:lnTo>
                <a:lnTo>
                  <a:pt x="10" y="1979"/>
                </a:lnTo>
                <a:lnTo>
                  <a:pt x="13" y="1973"/>
                </a:lnTo>
                <a:lnTo>
                  <a:pt x="16" y="1968"/>
                </a:lnTo>
                <a:lnTo>
                  <a:pt x="19" y="1963"/>
                </a:lnTo>
                <a:lnTo>
                  <a:pt x="21" y="1958"/>
                </a:lnTo>
                <a:lnTo>
                  <a:pt x="23" y="1953"/>
                </a:lnTo>
                <a:lnTo>
                  <a:pt x="25" y="1949"/>
                </a:lnTo>
                <a:lnTo>
                  <a:pt x="27" y="1944"/>
                </a:lnTo>
                <a:lnTo>
                  <a:pt x="28" y="1939"/>
                </a:lnTo>
                <a:lnTo>
                  <a:pt x="29" y="1934"/>
                </a:lnTo>
                <a:lnTo>
                  <a:pt x="31" y="1929"/>
                </a:lnTo>
                <a:lnTo>
                  <a:pt x="32" y="1922"/>
                </a:lnTo>
                <a:lnTo>
                  <a:pt x="33" y="1916"/>
                </a:lnTo>
                <a:lnTo>
                  <a:pt x="35" y="1908"/>
                </a:lnTo>
                <a:lnTo>
                  <a:pt x="35" y="1900"/>
                </a:lnTo>
                <a:lnTo>
                  <a:pt x="36" y="1892"/>
                </a:lnTo>
                <a:lnTo>
                  <a:pt x="37" y="1882"/>
                </a:lnTo>
                <a:lnTo>
                  <a:pt x="37" y="1399"/>
                </a:lnTo>
                <a:lnTo>
                  <a:pt x="37" y="1393"/>
                </a:lnTo>
                <a:lnTo>
                  <a:pt x="37" y="1383"/>
                </a:lnTo>
                <a:lnTo>
                  <a:pt x="37" y="1369"/>
                </a:lnTo>
                <a:lnTo>
                  <a:pt x="37" y="1352"/>
                </a:lnTo>
                <a:lnTo>
                  <a:pt x="37" y="1333"/>
                </a:lnTo>
                <a:lnTo>
                  <a:pt x="37" y="1310"/>
                </a:lnTo>
                <a:lnTo>
                  <a:pt x="37" y="1285"/>
                </a:lnTo>
                <a:lnTo>
                  <a:pt x="37" y="1258"/>
                </a:lnTo>
                <a:lnTo>
                  <a:pt x="37" y="1229"/>
                </a:lnTo>
                <a:lnTo>
                  <a:pt x="37" y="1199"/>
                </a:lnTo>
                <a:lnTo>
                  <a:pt x="37" y="1167"/>
                </a:lnTo>
                <a:lnTo>
                  <a:pt x="37" y="1133"/>
                </a:lnTo>
                <a:lnTo>
                  <a:pt x="37" y="1099"/>
                </a:lnTo>
                <a:lnTo>
                  <a:pt x="37" y="1064"/>
                </a:lnTo>
                <a:lnTo>
                  <a:pt x="37" y="1028"/>
                </a:lnTo>
                <a:lnTo>
                  <a:pt x="37" y="992"/>
                </a:lnTo>
                <a:lnTo>
                  <a:pt x="37" y="956"/>
                </a:lnTo>
                <a:lnTo>
                  <a:pt x="37" y="921"/>
                </a:lnTo>
                <a:lnTo>
                  <a:pt x="37" y="886"/>
                </a:lnTo>
                <a:lnTo>
                  <a:pt x="37" y="852"/>
                </a:lnTo>
                <a:lnTo>
                  <a:pt x="37" y="818"/>
                </a:lnTo>
                <a:lnTo>
                  <a:pt x="37" y="786"/>
                </a:lnTo>
                <a:lnTo>
                  <a:pt x="37" y="755"/>
                </a:lnTo>
                <a:lnTo>
                  <a:pt x="37" y="726"/>
                </a:lnTo>
                <a:lnTo>
                  <a:pt x="37" y="699"/>
                </a:lnTo>
                <a:lnTo>
                  <a:pt x="37" y="674"/>
                </a:lnTo>
                <a:lnTo>
                  <a:pt x="37" y="652"/>
                </a:lnTo>
                <a:lnTo>
                  <a:pt x="37" y="632"/>
                </a:lnTo>
                <a:lnTo>
                  <a:pt x="37" y="616"/>
                </a:lnTo>
                <a:lnTo>
                  <a:pt x="37" y="602"/>
                </a:lnTo>
                <a:lnTo>
                  <a:pt x="37" y="591"/>
                </a:lnTo>
                <a:lnTo>
                  <a:pt x="37" y="585"/>
                </a:lnTo>
                <a:lnTo>
                  <a:pt x="40" y="515"/>
                </a:lnTo>
                <a:lnTo>
                  <a:pt x="48" y="450"/>
                </a:lnTo>
                <a:lnTo>
                  <a:pt x="61" y="389"/>
                </a:lnTo>
                <a:lnTo>
                  <a:pt x="78" y="333"/>
                </a:lnTo>
                <a:lnTo>
                  <a:pt x="100" y="280"/>
                </a:lnTo>
                <a:lnTo>
                  <a:pt x="124" y="233"/>
                </a:lnTo>
                <a:lnTo>
                  <a:pt x="153" y="189"/>
                </a:lnTo>
                <a:lnTo>
                  <a:pt x="184" y="151"/>
                </a:lnTo>
                <a:lnTo>
                  <a:pt x="218" y="116"/>
                </a:lnTo>
                <a:lnTo>
                  <a:pt x="254" y="86"/>
                </a:lnTo>
                <a:lnTo>
                  <a:pt x="292" y="60"/>
                </a:lnTo>
                <a:lnTo>
                  <a:pt x="332" y="40"/>
                </a:lnTo>
                <a:lnTo>
                  <a:pt x="373" y="23"/>
                </a:lnTo>
                <a:lnTo>
                  <a:pt x="416" y="11"/>
                </a:lnTo>
                <a:lnTo>
                  <a:pt x="459" y="3"/>
                </a:lnTo>
                <a:lnTo>
                  <a:pt x="502" y="0"/>
                </a:lnTo>
                <a:lnTo>
                  <a:pt x="545" y="1"/>
                </a:lnTo>
                <a:lnTo>
                  <a:pt x="588" y="7"/>
                </a:lnTo>
                <a:lnTo>
                  <a:pt x="630" y="18"/>
                </a:lnTo>
                <a:lnTo>
                  <a:pt x="672" y="32"/>
                </a:lnTo>
                <a:lnTo>
                  <a:pt x="711" y="52"/>
                </a:lnTo>
                <a:lnTo>
                  <a:pt x="749" y="76"/>
                </a:lnTo>
                <a:lnTo>
                  <a:pt x="785" y="105"/>
                </a:lnTo>
                <a:lnTo>
                  <a:pt x="819" y="138"/>
                </a:lnTo>
                <a:lnTo>
                  <a:pt x="850" y="176"/>
                </a:lnTo>
                <a:lnTo>
                  <a:pt x="878" y="218"/>
                </a:lnTo>
                <a:lnTo>
                  <a:pt x="903" y="265"/>
                </a:lnTo>
                <a:lnTo>
                  <a:pt x="923" y="316"/>
                </a:lnTo>
                <a:lnTo>
                  <a:pt x="940" y="372"/>
                </a:lnTo>
                <a:lnTo>
                  <a:pt x="953" y="434"/>
                </a:lnTo>
                <a:lnTo>
                  <a:pt x="960" y="499"/>
                </a:lnTo>
                <a:lnTo>
                  <a:pt x="963" y="569"/>
                </a:lnTo>
                <a:lnTo>
                  <a:pt x="963" y="586"/>
                </a:lnTo>
                <a:lnTo>
                  <a:pt x="963" y="603"/>
                </a:lnTo>
                <a:lnTo>
                  <a:pt x="963" y="618"/>
                </a:lnTo>
                <a:lnTo>
                  <a:pt x="963" y="633"/>
                </a:lnTo>
                <a:lnTo>
                  <a:pt x="963" y="648"/>
                </a:lnTo>
                <a:lnTo>
                  <a:pt x="963" y="663"/>
                </a:lnTo>
                <a:lnTo>
                  <a:pt x="963" y="678"/>
                </a:lnTo>
                <a:lnTo>
                  <a:pt x="963" y="693"/>
                </a:lnTo>
                <a:lnTo>
                  <a:pt x="963" y="709"/>
                </a:lnTo>
                <a:lnTo>
                  <a:pt x="963" y="725"/>
                </a:lnTo>
                <a:lnTo>
                  <a:pt x="963" y="742"/>
                </a:lnTo>
                <a:lnTo>
                  <a:pt x="963" y="761"/>
                </a:lnTo>
                <a:lnTo>
                  <a:pt x="963" y="780"/>
                </a:lnTo>
                <a:lnTo>
                  <a:pt x="963" y="802"/>
                </a:lnTo>
                <a:lnTo>
                  <a:pt x="963" y="825"/>
                </a:lnTo>
                <a:lnTo>
                  <a:pt x="963" y="850"/>
                </a:lnTo>
                <a:lnTo>
                  <a:pt x="954" y="847"/>
                </a:lnTo>
                <a:lnTo>
                  <a:pt x="946" y="845"/>
                </a:lnTo>
                <a:lnTo>
                  <a:pt x="938" y="842"/>
                </a:lnTo>
                <a:lnTo>
                  <a:pt x="930" y="841"/>
                </a:lnTo>
                <a:lnTo>
                  <a:pt x="923" y="840"/>
                </a:lnTo>
                <a:lnTo>
                  <a:pt x="916" y="838"/>
                </a:lnTo>
                <a:lnTo>
                  <a:pt x="909" y="838"/>
                </a:lnTo>
                <a:lnTo>
                  <a:pt x="901" y="837"/>
                </a:lnTo>
                <a:lnTo>
                  <a:pt x="895" y="837"/>
                </a:lnTo>
                <a:lnTo>
                  <a:pt x="887" y="838"/>
                </a:lnTo>
                <a:lnTo>
                  <a:pt x="880" y="839"/>
                </a:lnTo>
                <a:lnTo>
                  <a:pt x="872" y="840"/>
                </a:lnTo>
                <a:lnTo>
                  <a:pt x="863" y="842"/>
                </a:lnTo>
                <a:lnTo>
                  <a:pt x="855" y="844"/>
                </a:lnTo>
                <a:lnTo>
                  <a:pt x="846" y="847"/>
                </a:lnTo>
                <a:lnTo>
                  <a:pt x="836" y="85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47800" y="3789360"/>
            <a:ext cx="1908000" cy="1916280"/>
          </a:xfrm>
          <a:custGeom>
            <a:avLst/>
            <a:gdLst/>
            <a:ahLst/>
            <a:rect l="l" t="t" r="r" b="b"/>
            <a:pathLst>
              <a:path w="1202" h="1207">
                <a:moveTo>
                  <a:pt x="674" y="5"/>
                </a:moveTo>
                <a:lnTo>
                  <a:pt x="701" y="9"/>
                </a:lnTo>
                <a:lnTo>
                  <a:pt x="728" y="14"/>
                </a:lnTo>
                <a:lnTo>
                  <a:pt x="755" y="21"/>
                </a:lnTo>
                <a:lnTo>
                  <a:pt x="782" y="29"/>
                </a:lnTo>
                <a:lnTo>
                  <a:pt x="808" y="37"/>
                </a:lnTo>
                <a:lnTo>
                  <a:pt x="833" y="48"/>
                </a:lnTo>
                <a:lnTo>
                  <a:pt x="858" y="59"/>
                </a:lnTo>
                <a:lnTo>
                  <a:pt x="882" y="71"/>
                </a:lnTo>
                <a:lnTo>
                  <a:pt x="905" y="85"/>
                </a:lnTo>
                <a:lnTo>
                  <a:pt x="928" y="99"/>
                </a:lnTo>
                <a:lnTo>
                  <a:pt x="950" y="114"/>
                </a:lnTo>
                <a:lnTo>
                  <a:pt x="971" y="130"/>
                </a:lnTo>
                <a:lnTo>
                  <a:pt x="992" y="147"/>
                </a:lnTo>
                <a:lnTo>
                  <a:pt x="1012" y="165"/>
                </a:lnTo>
                <a:lnTo>
                  <a:pt x="1031" y="184"/>
                </a:lnTo>
                <a:lnTo>
                  <a:pt x="1050" y="203"/>
                </a:lnTo>
                <a:lnTo>
                  <a:pt x="1067" y="224"/>
                </a:lnTo>
                <a:lnTo>
                  <a:pt x="1083" y="245"/>
                </a:lnTo>
                <a:lnTo>
                  <a:pt x="1099" y="268"/>
                </a:lnTo>
                <a:lnTo>
                  <a:pt x="1113" y="290"/>
                </a:lnTo>
                <a:lnTo>
                  <a:pt x="1126" y="313"/>
                </a:lnTo>
                <a:lnTo>
                  <a:pt x="1139" y="337"/>
                </a:lnTo>
                <a:lnTo>
                  <a:pt x="1150" y="361"/>
                </a:lnTo>
                <a:lnTo>
                  <a:pt x="1160" y="387"/>
                </a:lnTo>
                <a:lnTo>
                  <a:pt x="1170" y="413"/>
                </a:lnTo>
                <a:lnTo>
                  <a:pt x="1178" y="438"/>
                </a:lnTo>
                <a:lnTo>
                  <a:pt x="1185" y="465"/>
                </a:lnTo>
                <a:lnTo>
                  <a:pt x="1191" y="493"/>
                </a:lnTo>
                <a:lnTo>
                  <a:pt x="1196" y="519"/>
                </a:lnTo>
                <a:lnTo>
                  <a:pt x="1198" y="547"/>
                </a:lnTo>
                <a:lnTo>
                  <a:pt x="1201" y="575"/>
                </a:lnTo>
                <a:lnTo>
                  <a:pt x="1201" y="603"/>
                </a:lnTo>
                <a:lnTo>
                  <a:pt x="1201" y="634"/>
                </a:lnTo>
                <a:lnTo>
                  <a:pt x="1198" y="665"/>
                </a:lnTo>
                <a:lnTo>
                  <a:pt x="1194" y="695"/>
                </a:lnTo>
                <a:lnTo>
                  <a:pt x="1189" y="724"/>
                </a:lnTo>
                <a:lnTo>
                  <a:pt x="1182" y="753"/>
                </a:lnTo>
                <a:lnTo>
                  <a:pt x="1174" y="782"/>
                </a:lnTo>
                <a:lnTo>
                  <a:pt x="1164" y="810"/>
                </a:lnTo>
                <a:lnTo>
                  <a:pt x="1154" y="838"/>
                </a:lnTo>
                <a:lnTo>
                  <a:pt x="1141" y="864"/>
                </a:lnTo>
                <a:lnTo>
                  <a:pt x="1128" y="891"/>
                </a:lnTo>
                <a:lnTo>
                  <a:pt x="1114" y="915"/>
                </a:lnTo>
                <a:lnTo>
                  <a:pt x="1099" y="939"/>
                </a:lnTo>
                <a:lnTo>
                  <a:pt x="1082" y="964"/>
                </a:lnTo>
                <a:lnTo>
                  <a:pt x="1064" y="986"/>
                </a:lnTo>
                <a:lnTo>
                  <a:pt x="1045" y="1009"/>
                </a:lnTo>
                <a:lnTo>
                  <a:pt x="1025" y="1029"/>
                </a:lnTo>
                <a:lnTo>
                  <a:pt x="1004" y="1049"/>
                </a:lnTo>
                <a:lnTo>
                  <a:pt x="982" y="1068"/>
                </a:lnTo>
                <a:lnTo>
                  <a:pt x="959" y="1086"/>
                </a:lnTo>
                <a:lnTo>
                  <a:pt x="936" y="1104"/>
                </a:lnTo>
                <a:lnTo>
                  <a:pt x="911" y="1118"/>
                </a:lnTo>
                <a:lnTo>
                  <a:pt x="887" y="1133"/>
                </a:lnTo>
                <a:lnTo>
                  <a:pt x="861" y="1146"/>
                </a:lnTo>
                <a:lnTo>
                  <a:pt x="834" y="1158"/>
                </a:lnTo>
                <a:lnTo>
                  <a:pt x="807" y="1169"/>
                </a:lnTo>
                <a:lnTo>
                  <a:pt x="779" y="1179"/>
                </a:lnTo>
                <a:lnTo>
                  <a:pt x="750" y="1187"/>
                </a:lnTo>
                <a:lnTo>
                  <a:pt x="721" y="1194"/>
                </a:lnTo>
                <a:lnTo>
                  <a:pt x="692" y="1199"/>
                </a:lnTo>
                <a:lnTo>
                  <a:pt x="662" y="1203"/>
                </a:lnTo>
                <a:lnTo>
                  <a:pt x="632" y="1206"/>
                </a:lnTo>
                <a:lnTo>
                  <a:pt x="601" y="1206"/>
                </a:lnTo>
                <a:lnTo>
                  <a:pt x="570" y="1206"/>
                </a:lnTo>
                <a:lnTo>
                  <a:pt x="539" y="1203"/>
                </a:lnTo>
                <a:lnTo>
                  <a:pt x="509" y="1199"/>
                </a:lnTo>
                <a:lnTo>
                  <a:pt x="480" y="1194"/>
                </a:lnTo>
                <a:lnTo>
                  <a:pt x="451" y="1187"/>
                </a:lnTo>
                <a:lnTo>
                  <a:pt x="423" y="1179"/>
                </a:lnTo>
                <a:lnTo>
                  <a:pt x="394" y="1169"/>
                </a:lnTo>
                <a:lnTo>
                  <a:pt x="367" y="1158"/>
                </a:lnTo>
                <a:lnTo>
                  <a:pt x="340" y="1146"/>
                </a:lnTo>
                <a:lnTo>
                  <a:pt x="314" y="1133"/>
                </a:lnTo>
                <a:lnTo>
                  <a:pt x="290" y="1118"/>
                </a:lnTo>
                <a:lnTo>
                  <a:pt x="266" y="1104"/>
                </a:lnTo>
                <a:lnTo>
                  <a:pt x="242" y="1086"/>
                </a:lnTo>
                <a:lnTo>
                  <a:pt x="219" y="1068"/>
                </a:lnTo>
                <a:lnTo>
                  <a:pt x="197" y="1049"/>
                </a:lnTo>
                <a:lnTo>
                  <a:pt x="176" y="1029"/>
                </a:lnTo>
                <a:lnTo>
                  <a:pt x="156" y="1009"/>
                </a:lnTo>
                <a:lnTo>
                  <a:pt x="137" y="986"/>
                </a:lnTo>
                <a:lnTo>
                  <a:pt x="119" y="964"/>
                </a:lnTo>
                <a:lnTo>
                  <a:pt x="102" y="939"/>
                </a:lnTo>
                <a:lnTo>
                  <a:pt x="88" y="915"/>
                </a:lnTo>
                <a:lnTo>
                  <a:pt x="73" y="891"/>
                </a:lnTo>
                <a:lnTo>
                  <a:pt x="60" y="864"/>
                </a:lnTo>
                <a:lnTo>
                  <a:pt x="48" y="838"/>
                </a:lnTo>
                <a:lnTo>
                  <a:pt x="37" y="810"/>
                </a:lnTo>
                <a:lnTo>
                  <a:pt x="27" y="782"/>
                </a:lnTo>
                <a:lnTo>
                  <a:pt x="19" y="753"/>
                </a:lnTo>
                <a:lnTo>
                  <a:pt x="12" y="724"/>
                </a:lnTo>
                <a:lnTo>
                  <a:pt x="7" y="695"/>
                </a:lnTo>
                <a:lnTo>
                  <a:pt x="3" y="665"/>
                </a:lnTo>
                <a:lnTo>
                  <a:pt x="1" y="634"/>
                </a:lnTo>
                <a:lnTo>
                  <a:pt x="0" y="603"/>
                </a:lnTo>
                <a:lnTo>
                  <a:pt x="1" y="572"/>
                </a:lnTo>
                <a:lnTo>
                  <a:pt x="3" y="542"/>
                </a:lnTo>
                <a:lnTo>
                  <a:pt x="7" y="511"/>
                </a:lnTo>
                <a:lnTo>
                  <a:pt x="12" y="483"/>
                </a:lnTo>
                <a:lnTo>
                  <a:pt x="19" y="453"/>
                </a:lnTo>
                <a:lnTo>
                  <a:pt x="27" y="425"/>
                </a:lnTo>
                <a:lnTo>
                  <a:pt x="37" y="396"/>
                </a:lnTo>
                <a:lnTo>
                  <a:pt x="48" y="369"/>
                </a:lnTo>
                <a:lnTo>
                  <a:pt x="60" y="342"/>
                </a:lnTo>
                <a:lnTo>
                  <a:pt x="73" y="316"/>
                </a:lnTo>
                <a:lnTo>
                  <a:pt x="88" y="291"/>
                </a:lnTo>
                <a:lnTo>
                  <a:pt x="102" y="267"/>
                </a:lnTo>
                <a:lnTo>
                  <a:pt x="119" y="243"/>
                </a:lnTo>
                <a:lnTo>
                  <a:pt x="137" y="221"/>
                </a:lnTo>
                <a:lnTo>
                  <a:pt x="156" y="198"/>
                </a:lnTo>
                <a:lnTo>
                  <a:pt x="176" y="177"/>
                </a:lnTo>
                <a:lnTo>
                  <a:pt x="197" y="157"/>
                </a:lnTo>
                <a:lnTo>
                  <a:pt x="219" y="138"/>
                </a:lnTo>
                <a:lnTo>
                  <a:pt x="242" y="120"/>
                </a:lnTo>
                <a:lnTo>
                  <a:pt x="266" y="103"/>
                </a:lnTo>
                <a:lnTo>
                  <a:pt x="290" y="89"/>
                </a:lnTo>
                <a:lnTo>
                  <a:pt x="314" y="74"/>
                </a:lnTo>
                <a:lnTo>
                  <a:pt x="340" y="60"/>
                </a:lnTo>
                <a:lnTo>
                  <a:pt x="367" y="48"/>
                </a:lnTo>
                <a:lnTo>
                  <a:pt x="394" y="37"/>
                </a:lnTo>
                <a:lnTo>
                  <a:pt x="423" y="28"/>
                </a:lnTo>
                <a:lnTo>
                  <a:pt x="451" y="19"/>
                </a:lnTo>
                <a:lnTo>
                  <a:pt x="480" y="13"/>
                </a:lnTo>
                <a:lnTo>
                  <a:pt x="509" y="7"/>
                </a:lnTo>
                <a:lnTo>
                  <a:pt x="539" y="3"/>
                </a:lnTo>
                <a:lnTo>
                  <a:pt x="570" y="1"/>
                </a:lnTo>
                <a:lnTo>
                  <a:pt x="601" y="0"/>
                </a:lnTo>
                <a:lnTo>
                  <a:pt x="610" y="0"/>
                </a:lnTo>
                <a:lnTo>
                  <a:pt x="619" y="1"/>
                </a:lnTo>
                <a:lnTo>
                  <a:pt x="628" y="1"/>
                </a:lnTo>
                <a:lnTo>
                  <a:pt x="638" y="2"/>
                </a:lnTo>
                <a:lnTo>
                  <a:pt x="647" y="3"/>
                </a:lnTo>
                <a:lnTo>
                  <a:pt x="657" y="3"/>
                </a:lnTo>
                <a:lnTo>
                  <a:pt x="666" y="5"/>
                </a:lnTo>
                <a:lnTo>
                  <a:pt x="674" y="5"/>
                </a:ln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7800" y="3789360"/>
            <a:ext cx="1917720" cy="1925640"/>
          </a:xfrm>
          <a:custGeom>
            <a:avLst/>
            <a:gdLst/>
            <a:ahLst/>
            <a:rect l="l" t="t" r="r" b="b"/>
            <a:pathLst>
              <a:path w="1208" h="1213">
                <a:moveTo>
                  <a:pt x="677" y="5"/>
                </a:moveTo>
                <a:lnTo>
                  <a:pt x="677" y="5"/>
                </a:lnTo>
                <a:lnTo>
                  <a:pt x="704" y="9"/>
                </a:lnTo>
                <a:lnTo>
                  <a:pt x="732" y="14"/>
                </a:lnTo>
                <a:lnTo>
                  <a:pt x="759" y="21"/>
                </a:lnTo>
                <a:lnTo>
                  <a:pt x="786" y="29"/>
                </a:lnTo>
                <a:lnTo>
                  <a:pt x="812" y="37"/>
                </a:lnTo>
                <a:lnTo>
                  <a:pt x="837" y="48"/>
                </a:lnTo>
                <a:lnTo>
                  <a:pt x="862" y="59"/>
                </a:lnTo>
                <a:lnTo>
                  <a:pt x="886" y="71"/>
                </a:lnTo>
                <a:lnTo>
                  <a:pt x="910" y="85"/>
                </a:lnTo>
                <a:lnTo>
                  <a:pt x="933" y="99"/>
                </a:lnTo>
                <a:lnTo>
                  <a:pt x="955" y="115"/>
                </a:lnTo>
                <a:lnTo>
                  <a:pt x="976" y="131"/>
                </a:lnTo>
                <a:lnTo>
                  <a:pt x="997" y="148"/>
                </a:lnTo>
                <a:lnTo>
                  <a:pt x="1017" y="166"/>
                </a:lnTo>
                <a:lnTo>
                  <a:pt x="1036" y="185"/>
                </a:lnTo>
                <a:lnTo>
                  <a:pt x="1055" y="204"/>
                </a:lnTo>
                <a:lnTo>
                  <a:pt x="1072" y="225"/>
                </a:lnTo>
                <a:lnTo>
                  <a:pt x="1088" y="246"/>
                </a:lnTo>
                <a:lnTo>
                  <a:pt x="1104" y="269"/>
                </a:lnTo>
                <a:lnTo>
                  <a:pt x="1119" y="291"/>
                </a:lnTo>
                <a:lnTo>
                  <a:pt x="1132" y="315"/>
                </a:lnTo>
                <a:lnTo>
                  <a:pt x="1145" y="339"/>
                </a:lnTo>
                <a:lnTo>
                  <a:pt x="1156" y="363"/>
                </a:lnTo>
                <a:lnTo>
                  <a:pt x="1166" y="389"/>
                </a:lnTo>
                <a:lnTo>
                  <a:pt x="1176" y="415"/>
                </a:lnTo>
                <a:lnTo>
                  <a:pt x="1184" y="440"/>
                </a:lnTo>
                <a:lnTo>
                  <a:pt x="1191" y="467"/>
                </a:lnTo>
                <a:lnTo>
                  <a:pt x="1197" y="495"/>
                </a:lnTo>
                <a:lnTo>
                  <a:pt x="1202" y="522"/>
                </a:lnTo>
                <a:lnTo>
                  <a:pt x="1204" y="550"/>
                </a:lnTo>
                <a:lnTo>
                  <a:pt x="1207" y="578"/>
                </a:lnTo>
                <a:lnTo>
                  <a:pt x="1207" y="606"/>
                </a:lnTo>
                <a:lnTo>
                  <a:pt x="1207" y="637"/>
                </a:lnTo>
                <a:lnTo>
                  <a:pt x="1204" y="668"/>
                </a:lnTo>
                <a:lnTo>
                  <a:pt x="1200" y="698"/>
                </a:lnTo>
                <a:lnTo>
                  <a:pt x="1195" y="728"/>
                </a:lnTo>
                <a:lnTo>
                  <a:pt x="1188" y="757"/>
                </a:lnTo>
                <a:lnTo>
                  <a:pt x="1180" y="786"/>
                </a:lnTo>
                <a:lnTo>
                  <a:pt x="1170" y="814"/>
                </a:lnTo>
                <a:lnTo>
                  <a:pt x="1160" y="842"/>
                </a:lnTo>
                <a:lnTo>
                  <a:pt x="1147" y="868"/>
                </a:lnTo>
                <a:lnTo>
                  <a:pt x="1134" y="895"/>
                </a:lnTo>
                <a:lnTo>
                  <a:pt x="1120" y="920"/>
                </a:lnTo>
                <a:lnTo>
                  <a:pt x="1104" y="944"/>
                </a:lnTo>
                <a:lnTo>
                  <a:pt x="1087" y="969"/>
                </a:lnTo>
                <a:lnTo>
                  <a:pt x="1069" y="991"/>
                </a:lnTo>
                <a:lnTo>
                  <a:pt x="1050" y="1014"/>
                </a:lnTo>
                <a:lnTo>
                  <a:pt x="1030" y="1034"/>
                </a:lnTo>
                <a:lnTo>
                  <a:pt x="1009" y="1054"/>
                </a:lnTo>
                <a:lnTo>
                  <a:pt x="987" y="1073"/>
                </a:lnTo>
                <a:lnTo>
                  <a:pt x="964" y="1091"/>
                </a:lnTo>
                <a:lnTo>
                  <a:pt x="941" y="1109"/>
                </a:lnTo>
                <a:lnTo>
                  <a:pt x="916" y="1124"/>
                </a:lnTo>
                <a:lnTo>
                  <a:pt x="891" y="1139"/>
                </a:lnTo>
                <a:lnTo>
                  <a:pt x="865" y="1152"/>
                </a:lnTo>
                <a:lnTo>
                  <a:pt x="838" y="1164"/>
                </a:lnTo>
                <a:lnTo>
                  <a:pt x="811" y="1175"/>
                </a:lnTo>
                <a:lnTo>
                  <a:pt x="783" y="1185"/>
                </a:lnTo>
                <a:lnTo>
                  <a:pt x="754" y="1193"/>
                </a:lnTo>
                <a:lnTo>
                  <a:pt x="725" y="1200"/>
                </a:lnTo>
                <a:lnTo>
                  <a:pt x="695" y="1205"/>
                </a:lnTo>
                <a:lnTo>
                  <a:pt x="665" y="1209"/>
                </a:lnTo>
                <a:lnTo>
                  <a:pt x="635" y="1212"/>
                </a:lnTo>
                <a:lnTo>
                  <a:pt x="604" y="1212"/>
                </a:lnTo>
                <a:lnTo>
                  <a:pt x="573" y="1212"/>
                </a:lnTo>
                <a:lnTo>
                  <a:pt x="542" y="1209"/>
                </a:lnTo>
                <a:lnTo>
                  <a:pt x="512" y="1205"/>
                </a:lnTo>
                <a:lnTo>
                  <a:pt x="482" y="1200"/>
                </a:lnTo>
                <a:lnTo>
                  <a:pt x="453" y="1193"/>
                </a:lnTo>
                <a:lnTo>
                  <a:pt x="425" y="1185"/>
                </a:lnTo>
                <a:lnTo>
                  <a:pt x="396" y="1175"/>
                </a:lnTo>
                <a:lnTo>
                  <a:pt x="369" y="1164"/>
                </a:lnTo>
                <a:lnTo>
                  <a:pt x="342" y="1152"/>
                </a:lnTo>
                <a:lnTo>
                  <a:pt x="316" y="1139"/>
                </a:lnTo>
                <a:lnTo>
                  <a:pt x="291" y="1124"/>
                </a:lnTo>
                <a:lnTo>
                  <a:pt x="267" y="1109"/>
                </a:lnTo>
                <a:lnTo>
                  <a:pt x="243" y="1091"/>
                </a:lnTo>
                <a:lnTo>
                  <a:pt x="220" y="1073"/>
                </a:lnTo>
                <a:lnTo>
                  <a:pt x="198" y="1054"/>
                </a:lnTo>
                <a:lnTo>
                  <a:pt x="177" y="1034"/>
                </a:lnTo>
                <a:lnTo>
                  <a:pt x="157" y="1014"/>
                </a:lnTo>
                <a:lnTo>
                  <a:pt x="138" y="991"/>
                </a:lnTo>
                <a:lnTo>
                  <a:pt x="120" y="969"/>
                </a:lnTo>
                <a:lnTo>
                  <a:pt x="103" y="944"/>
                </a:lnTo>
                <a:lnTo>
                  <a:pt x="88" y="920"/>
                </a:lnTo>
                <a:lnTo>
                  <a:pt x="73" y="895"/>
                </a:lnTo>
                <a:lnTo>
                  <a:pt x="60" y="868"/>
                </a:lnTo>
                <a:lnTo>
                  <a:pt x="48" y="842"/>
                </a:lnTo>
                <a:lnTo>
                  <a:pt x="37" y="814"/>
                </a:lnTo>
                <a:lnTo>
                  <a:pt x="27" y="786"/>
                </a:lnTo>
                <a:lnTo>
                  <a:pt x="19" y="757"/>
                </a:lnTo>
                <a:lnTo>
                  <a:pt x="12" y="728"/>
                </a:lnTo>
                <a:lnTo>
                  <a:pt x="7" y="698"/>
                </a:lnTo>
                <a:lnTo>
                  <a:pt x="3" y="668"/>
                </a:lnTo>
                <a:lnTo>
                  <a:pt x="1" y="637"/>
                </a:lnTo>
                <a:lnTo>
                  <a:pt x="0" y="606"/>
                </a:lnTo>
                <a:lnTo>
                  <a:pt x="1" y="575"/>
                </a:lnTo>
                <a:lnTo>
                  <a:pt x="3" y="545"/>
                </a:lnTo>
                <a:lnTo>
                  <a:pt x="7" y="514"/>
                </a:lnTo>
                <a:lnTo>
                  <a:pt x="12" y="485"/>
                </a:lnTo>
                <a:lnTo>
                  <a:pt x="19" y="455"/>
                </a:lnTo>
                <a:lnTo>
                  <a:pt x="27" y="427"/>
                </a:lnTo>
                <a:lnTo>
                  <a:pt x="37" y="398"/>
                </a:lnTo>
                <a:lnTo>
                  <a:pt x="48" y="371"/>
                </a:lnTo>
                <a:lnTo>
                  <a:pt x="60" y="344"/>
                </a:lnTo>
                <a:lnTo>
                  <a:pt x="73" y="318"/>
                </a:lnTo>
                <a:lnTo>
                  <a:pt x="88" y="292"/>
                </a:lnTo>
                <a:lnTo>
                  <a:pt x="103" y="268"/>
                </a:lnTo>
                <a:lnTo>
                  <a:pt x="120" y="244"/>
                </a:lnTo>
                <a:lnTo>
                  <a:pt x="138" y="222"/>
                </a:lnTo>
                <a:lnTo>
                  <a:pt x="157" y="199"/>
                </a:lnTo>
                <a:lnTo>
                  <a:pt x="177" y="178"/>
                </a:lnTo>
                <a:lnTo>
                  <a:pt x="198" y="158"/>
                </a:lnTo>
                <a:lnTo>
                  <a:pt x="220" y="139"/>
                </a:lnTo>
                <a:lnTo>
                  <a:pt x="243" y="121"/>
                </a:lnTo>
                <a:lnTo>
                  <a:pt x="267" y="104"/>
                </a:lnTo>
                <a:lnTo>
                  <a:pt x="291" y="89"/>
                </a:lnTo>
                <a:lnTo>
                  <a:pt x="316" y="74"/>
                </a:lnTo>
                <a:lnTo>
                  <a:pt x="342" y="60"/>
                </a:lnTo>
                <a:lnTo>
                  <a:pt x="369" y="48"/>
                </a:lnTo>
                <a:lnTo>
                  <a:pt x="396" y="37"/>
                </a:lnTo>
                <a:lnTo>
                  <a:pt x="425" y="28"/>
                </a:lnTo>
                <a:lnTo>
                  <a:pt x="453" y="19"/>
                </a:lnTo>
                <a:lnTo>
                  <a:pt x="482" y="13"/>
                </a:lnTo>
                <a:lnTo>
                  <a:pt x="512" y="7"/>
                </a:lnTo>
                <a:lnTo>
                  <a:pt x="542" y="3"/>
                </a:lnTo>
                <a:lnTo>
                  <a:pt x="573" y="1"/>
                </a:lnTo>
                <a:lnTo>
                  <a:pt x="604" y="0"/>
                </a:lnTo>
                <a:lnTo>
                  <a:pt x="613" y="0"/>
                </a:lnTo>
                <a:lnTo>
                  <a:pt x="622" y="1"/>
                </a:lnTo>
                <a:lnTo>
                  <a:pt x="631" y="1"/>
                </a:lnTo>
                <a:lnTo>
                  <a:pt x="641" y="2"/>
                </a:lnTo>
                <a:lnTo>
                  <a:pt x="650" y="3"/>
                </a:lnTo>
                <a:lnTo>
                  <a:pt x="660" y="3"/>
                </a:lnTo>
                <a:lnTo>
                  <a:pt x="669" y="5"/>
                </a:lnTo>
                <a:lnTo>
                  <a:pt x="677" y="5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05440" y="444600"/>
            <a:ext cx="210960" cy="60120"/>
          </a:xfrm>
          <a:custGeom>
            <a:avLst/>
            <a:gdLst/>
            <a:ahLst/>
            <a:rect l="l" t="t" r="r" b="b"/>
            <a:pathLst>
              <a:path w="133" h="38">
                <a:moveTo>
                  <a:pt x="66" y="0"/>
                </a:moveTo>
                <a:lnTo>
                  <a:pt x="79" y="1"/>
                </a:lnTo>
                <a:lnTo>
                  <a:pt x="92" y="2"/>
                </a:lnTo>
                <a:lnTo>
                  <a:pt x="102" y="3"/>
                </a:lnTo>
                <a:lnTo>
                  <a:pt x="113" y="6"/>
                </a:lnTo>
                <a:lnTo>
                  <a:pt x="121" y="9"/>
                </a:lnTo>
                <a:lnTo>
                  <a:pt x="127" y="11"/>
                </a:lnTo>
                <a:lnTo>
                  <a:pt x="131" y="15"/>
                </a:lnTo>
                <a:lnTo>
                  <a:pt x="132" y="19"/>
                </a:lnTo>
                <a:lnTo>
                  <a:pt x="131" y="22"/>
                </a:lnTo>
                <a:lnTo>
                  <a:pt x="127" y="26"/>
                </a:lnTo>
                <a:lnTo>
                  <a:pt x="121" y="28"/>
                </a:lnTo>
                <a:lnTo>
                  <a:pt x="113" y="32"/>
                </a:lnTo>
                <a:lnTo>
                  <a:pt x="102" y="34"/>
                </a:lnTo>
                <a:lnTo>
                  <a:pt x="92" y="35"/>
                </a:lnTo>
                <a:lnTo>
                  <a:pt x="79" y="36"/>
                </a:lnTo>
                <a:lnTo>
                  <a:pt x="66" y="37"/>
                </a:lnTo>
                <a:lnTo>
                  <a:pt x="53" y="36"/>
                </a:lnTo>
                <a:lnTo>
                  <a:pt x="40" y="35"/>
                </a:lnTo>
                <a:lnTo>
                  <a:pt x="29" y="34"/>
                </a:lnTo>
                <a:lnTo>
                  <a:pt x="19" y="32"/>
                </a:lnTo>
                <a:lnTo>
                  <a:pt x="11" y="28"/>
                </a:lnTo>
                <a:lnTo>
                  <a:pt x="5" y="26"/>
                </a:lnTo>
                <a:lnTo>
                  <a:pt x="1" y="22"/>
                </a:lnTo>
                <a:lnTo>
                  <a:pt x="0" y="19"/>
                </a:lnTo>
                <a:lnTo>
                  <a:pt x="1" y="15"/>
                </a:lnTo>
                <a:lnTo>
                  <a:pt x="5" y="11"/>
                </a:lnTo>
                <a:lnTo>
                  <a:pt x="11" y="9"/>
                </a:lnTo>
                <a:lnTo>
                  <a:pt x="19" y="6"/>
                </a:lnTo>
                <a:lnTo>
                  <a:pt x="29" y="3"/>
                </a:lnTo>
                <a:lnTo>
                  <a:pt x="40" y="2"/>
                </a:lnTo>
                <a:lnTo>
                  <a:pt x="53" y="1"/>
                </a:lnTo>
                <a:lnTo>
                  <a:pt x="66" y="0"/>
                </a:ln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05440" y="444600"/>
            <a:ext cx="220320" cy="69840"/>
          </a:xfrm>
          <a:custGeom>
            <a:avLst/>
            <a:gdLst/>
            <a:ahLst/>
            <a:rect l="l" t="t" r="r" b="b"/>
            <a:pathLst>
              <a:path w="139" h="44">
                <a:moveTo>
                  <a:pt x="69" y="0"/>
                </a:moveTo>
                <a:lnTo>
                  <a:pt x="69" y="0"/>
                </a:lnTo>
                <a:lnTo>
                  <a:pt x="83" y="1"/>
                </a:lnTo>
                <a:lnTo>
                  <a:pt x="96" y="2"/>
                </a:lnTo>
                <a:lnTo>
                  <a:pt x="107" y="4"/>
                </a:lnTo>
                <a:lnTo>
                  <a:pt x="118" y="7"/>
                </a:lnTo>
                <a:lnTo>
                  <a:pt x="126" y="10"/>
                </a:lnTo>
                <a:lnTo>
                  <a:pt x="133" y="13"/>
                </a:lnTo>
                <a:lnTo>
                  <a:pt x="137" y="17"/>
                </a:lnTo>
                <a:lnTo>
                  <a:pt x="138" y="22"/>
                </a:lnTo>
                <a:lnTo>
                  <a:pt x="137" y="26"/>
                </a:lnTo>
                <a:lnTo>
                  <a:pt x="133" y="30"/>
                </a:lnTo>
                <a:lnTo>
                  <a:pt x="126" y="33"/>
                </a:lnTo>
                <a:lnTo>
                  <a:pt x="118" y="37"/>
                </a:lnTo>
                <a:lnTo>
                  <a:pt x="107" y="39"/>
                </a:lnTo>
                <a:lnTo>
                  <a:pt x="96" y="41"/>
                </a:lnTo>
                <a:lnTo>
                  <a:pt x="83" y="42"/>
                </a:lnTo>
                <a:lnTo>
                  <a:pt x="69" y="43"/>
                </a:lnTo>
                <a:lnTo>
                  <a:pt x="55" y="42"/>
                </a:lnTo>
                <a:lnTo>
                  <a:pt x="42" y="41"/>
                </a:lnTo>
                <a:lnTo>
                  <a:pt x="30" y="39"/>
                </a:lnTo>
                <a:lnTo>
                  <a:pt x="20" y="37"/>
                </a:lnTo>
                <a:lnTo>
                  <a:pt x="12" y="33"/>
                </a:lnTo>
                <a:lnTo>
                  <a:pt x="5" y="30"/>
                </a:lnTo>
                <a:lnTo>
                  <a:pt x="1" y="26"/>
                </a:lnTo>
                <a:lnTo>
                  <a:pt x="0" y="22"/>
                </a:lnTo>
                <a:lnTo>
                  <a:pt x="1" y="17"/>
                </a:lnTo>
                <a:lnTo>
                  <a:pt x="5" y="13"/>
                </a:lnTo>
                <a:lnTo>
                  <a:pt x="12" y="10"/>
                </a:lnTo>
                <a:lnTo>
                  <a:pt x="20" y="7"/>
                </a:lnTo>
                <a:lnTo>
                  <a:pt x="30" y="4"/>
                </a:lnTo>
                <a:lnTo>
                  <a:pt x="42" y="2"/>
                </a:lnTo>
                <a:lnTo>
                  <a:pt x="55" y="1"/>
                </a:lnTo>
                <a:lnTo>
                  <a:pt x="69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02040" y="4313160"/>
            <a:ext cx="864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G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54480" y="2133720"/>
            <a:ext cx="2268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4480" y="5029200"/>
            <a:ext cx="2268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67160" y="2135160"/>
            <a:ext cx="0" cy="28940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3276720"/>
            <a:ext cx="304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lumn of mercury used to measure pressu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 is how much lower the pressure is inside than outside.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at it tells u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KE)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avg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3/2 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the meaning of temperatur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 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s the average particle velocity square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oot mean square velocity is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 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     =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Arial"/>
              </a:rPr>
              <a:t>rm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58840" y="4191120"/>
            <a:ext cx="9129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mbine these two equa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KE)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avg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1/2 mu 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) [m is mass of one gas particle in kg]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KE)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avg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3/2 R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re M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kg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s the molar mass in kg/mole, and R has the units 8.314 J/Kmol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velocity will be in m/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133720" y="3124080"/>
                <a:ext cx="6097320" cy="406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RT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culate the root mean square velocity of  carbon dioxide at 25º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culate the root mean square velocity of  hydrogen at 25º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culate the root mean square velocity of  chlorine at 25º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ange of velociti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average distance a molecule travels before colliding with another is called the mean free path and is small (near 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erature is an average. There are molecules of many speeds in the averag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own on a graph called a velocity distrib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073160" y="387360"/>
            <a:ext cx="7683480" cy="5321160"/>
          </a:xfrm>
          <a:prstGeom prst="rect">
            <a:avLst/>
          </a:prstGeom>
          <a:solidFill>
            <a:srgbClr val="fafd00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-1013400" y="2636640"/>
            <a:ext cx="3356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 of partic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79880" y="5684760"/>
            <a:ext cx="3365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lecular Velo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66680" y="1143000"/>
            <a:ext cx="7693200" cy="4530600"/>
          </a:xfrm>
          <a:custGeom>
            <a:avLst/>
            <a:gdLst/>
            <a:ahLst/>
            <a:rect l="l" t="t" r="r" b="b"/>
            <a:pathLst>
              <a:path w="4846" h="2854">
                <a:moveTo>
                  <a:pt x="0" y="2832"/>
                </a:moveTo>
                <a:lnTo>
                  <a:pt x="48" y="2835"/>
                </a:lnTo>
                <a:lnTo>
                  <a:pt x="93" y="2835"/>
                </a:lnTo>
                <a:lnTo>
                  <a:pt x="138" y="2805"/>
                </a:lnTo>
                <a:lnTo>
                  <a:pt x="258" y="2715"/>
                </a:lnTo>
                <a:lnTo>
                  <a:pt x="288" y="2670"/>
                </a:lnTo>
                <a:lnTo>
                  <a:pt x="318" y="2625"/>
                </a:lnTo>
                <a:lnTo>
                  <a:pt x="348" y="2550"/>
                </a:lnTo>
                <a:lnTo>
                  <a:pt x="438" y="2310"/>
                </a:lnTo>
                <a:lnTo>
                  <a:pt x="468" y="2130"/>
                </a:lnTo>
                <a:lnTo>
                  <a:pt x="483" y="1980"/>
                </a:lnTo>
                <a:lnTo>
                  <a:pt x="483" y="1830"/>
                </a:lnTo>
                <a:lnTo>
                  <a:pt x="498" y="1449"/>
                </a:lnTo>
                <a:lnTo>
                  <a:pt x="528" y="1200"/>
                </a:lnTo>
                <a:lnTo>
                  <a:pt x="624" y="768"/>
                </a:lnTo>
                <a:lnTo>
                  <a:pt x="816" y="288"/>
                </a:lnTo>
                <a:lnTo>
                  <a:pt x="903" y="126"/>
                </a:lnTo>
                <a:lnTo>
                  <a:pt x="1029" y="18"/>
                </a:lnTo>
                <a:lnTo>
                  <a:pt x="1104" y="0"/>
                </a:lnTo>
                <a:lnTo>
                  <a:pt x="1263" y="90"/>
                </a:lnTo>
                <a:lnTo>
                  <a:pt x="1425" y="351"/>
                </a:lnTo>
                <a:lnTo>
                  <a:pt x="1569" y="702"/>
                </a:lnTo>
                <a:lnTo>
                  <a:pt x="1695" y="1206"/>
                </a:lnTo>
                <a:lnTo>
                  <a:pt x="1878" y="1905"/>
                </a:lnTo>
                <a:lnTo>
                  <a:pt x="2028" y="2142"/>
                </a:lnTo>
                <a:lnTo>
                  <a:pt x="2388" y="2457"/>
                </a:lnTo>
                <a:lnTo>
                  <a:pt x="2865" y="2637"/>
                </a:lnTo>
                <a:lnTo>
                  <a:pt x="3279" y="2727"/>
                </a:lnTo>
                <a:lnTo>
                  <a:pt x="3801" y="2799"/>
                </a:lnTo>
                <a:lnTo>
                  <a:pt x="4845" y="2853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169360" y="493560"/>
            <a:ext cx="1315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273 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073160" y="387360"/>
            <a:ext cx="7683480" cy="5321160"/>
          </a:xfrm>
          <a:prstGeom prst="rect">
            <a:avLst/>
          </a:prstGeom>
          <a:solidFill>
            <a:srgbClr val="fafd00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16200000">
            <a:off x="-1013400" y="2636640"/>
            <a:ext cx="3356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 of partic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79880" y="5684760"/>
            <a:ext cx="3365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lecular Velo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1143000"/>
            <a:ext cx="7693200" cy="4530600"/>
          </a:xfrm>
          <a:custGeom>
            <a:avLst/>
            <a:gdLst/>
            <a:ahLst/>
            <a:rect l="l" t="t" r="r" b="b"/>
            <a:pathLst>
              <a:path w="4846" h="2854">
                <a:moveTo>
                  <a:pt x="0" y="2832"/>
                </a:moveTo>
                <a:lnTo>
                  <a:pt x="48" y="2835"/>
                </a:lnTo>
                <a:lnTo>
                  <a:pt x="93" y="2835"/>
                </a:lnTo>
                <a:lnTo>
                  <a:pt x="138" y="2805"/>
                </a:lnTo>
                <a:lnTo>
                  <a:pt x="258" y="2715"/>
                </a:lnTo>
                <a:lnTo>
                  <a:pt x="288" y="2670"/>
                </a:lnTo>
                <a:lnTo>
                  <a:pt x="318" y="2625"/>
                </a:lnTo>
                <a:lnTo>
                  <a:pt x="348" y="2550"/>
                </a:lnTo>
                <a:lnTo>
                  <a:pt x="438" y="2310"/>
                </a:lnTo>
                <a:lnTo>
                  <a:pt x="468" y="2130"/>
                </a:lnTo>
                <a:lnTo>
                  <a:pt x="483" y="1980"/>
                </a:lnTo>
                <a:lnTo>
                  <a:pt x="483" y="1830"/>
                </a:lnTo>
                <a:lnTo>
                  <a:pt x="498" y="1449"/>
                </a:lnTo>
                <a:lnTo>
                  <a:pt x="528" y="1200"/>
                </a:lnTo>
                <a:lnTo>
                  <a:pt x="624" y="768"/>
                </a:lnTo>
                <a:lnTo>
                  <a:pt x="816" y="288"/>
                </a:lnTo>
                <a:lnTo>
                  <a:pt x="903" y="126"/>
                </a:lnTo>
                <a:lnTo>
                  <a:pt x="1029" y="18"/>
                </a:lnTo>
                <a:lnTo>
                  <a:pt x="1104" y="0"/>
                </a:lnTo>
                <a:lnTo>
                  <a:pt x="1263" y="90"/>
                </a:lnTo>
                <a:lnTo>
                  <a:pt x="1425" y="351"/>
                </a:lnTo>
                <a:lnTo>
                  <a:pt x="1569" y="702"/>
                </a:lnTo>
                <a:lnTo>
                  <a:pt x="1695" y="1206"/>
                </a:lnTo>
                <a:lnTo>
                  <a:pt x="1878" y="1905"/>
                </a:lnTo>
                <a:lnTo>
                  <a:pt x="2028" y="2142"/>
                </a:lnTo>
                <a:lnTo>
                  <a:pt x="2388" y="2457"/>
                </a:lnTo>
                <a:lnTo>
                  <a:pt x="2865" y="2637"/>
                </a:lnTo>
                <a:lnTo>
                  <a:pt x="3279" y="2727"/>
                </a:lnTo>
                <a:lnTo>
                  <a:pt x="3801" y="2799"/>
                </a:lnTo>
                <a:lnTo>
                  <a:pt x="4845" y="2853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19240" y="2657520"/>
            <a:ext cx="7526160" cy="3035160"/>
          </a:xfrm>
          <a:custGeom>
            <a:avLst/>
            <a:gdLst/>
            <a:ahLst/>
            <a:rect l="l" t="t" r="r" b="b"/>
            <a:pathLst>
              <a:path w="4741" h="1912">
                <a:moveTo>
                  <a:pt x="0" y="1911"/>
                </a:moveTo>
                <a:lnTo>
                  <a:pt x="429" y="1719"/>
                </a:lnTo>
                <a:lnTo>
                  <a:pt x="636" y="1503"/>
                </a:lnTo>
                <a:lnTo>
                  <a:pt x="834" y="1188"/>
                </a:lnTo>
                <a:lnTo>
                  <a:pt x="969" y="981"/>
                </a:lnTo>
                <a:lnTo>
                  <a:pt x="1068" y="711"/>
                </a:lnTo>
                <a:lnTo>
                  <a:pt x="1221" y="450"/>
                </a:lnTo>
                <a:lnTo>
                  <a:pt x="1338" y="252"/>
                </a:lnTo>
                <a:lnTo>
                  <a:pt x="1536" y="99"/>
                </a:lnTo>
                <a:lnTo>
                  <a:pt x="1716" y="0"/>
                </a:lnTo>
                <a:lnTo>
                  <a:pt x="1923" y="27"/>
                </a:lnTo>
                <a:lnTo>
                  <a:pt x="2100" y="66"/>
                </a:lnTo>
                <a:lnTo>
                  <a:pt x="2274" y="216"/>
                </a:lnTo>
                <a:lnTo>
                  <a:pt x="2409" y="387"/>
                </a:lnTo>
                <a:lnTo>
                  <a:pt x="2616" y="639"/>
                </a:lnTo>
                <a:lnTo>
                  <a:pt x="2877" y="873"/>
                </a:lnTo>
                <a:lnTo>
                  <a:pt x="3066" y="1044"/>
                </a:lnTo>
                <a:lnTo>
                  <a:pt x="3291" y="1233"/>
                </a:lnTo>
                <a:lnTo>
                  <a:pt x="3597" y="1449"/>
                </a:lnTo>
                <a:lnTo>
                  <a:pt x="3831" y="1593"/>
                </a:lnTo>
                <a:lnTo>
                  <a:pt x="4245" y="1800"/>
                </a:lnTo>
                <a:lnTo>
                  <a:pt x="4740" y="1866"/>
                </a:lnTo>
              </a:path>
            </a:pathLst>
          </a:custGeom>
          <a:noFill/>
          <a:ln cap="rnd" w="50760">
            <a:solidFill>
              <a:srgbClr val="037c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69360" y="493560"/>
            <a:ext cx="1315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273 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407760" y="1946160"/>
            <a:ext cx="1544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7c03"/>
                </a:solidFill>
                <a:latin typeface="Times New Roman"/>
              </a:rPr>
              <a:t>1273 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073160" y="387360"/>
            <a:ext cx="7683480" cy="5321160"/>
          </a:xfrm>
          <a:prstGeom prst="rect">
            <a:avLst/>
          </a:prstGeom>
          <a:solidFill>
            <a:srgbClr val="fafd00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6200000">
            <a:off x="-1013400" y="2636640"/>
            <a:ext cx="3356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 of partic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79880" y="5684760"/>
            <a:ext cx="3365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lecular Velo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1143000"/>
            <a:ext cx="7693200" cy="4530600"/>
          </a:xfrm>
          <a:custGeom>
            <a:avLst/>
            <a:gdLst/>
            <a:ahLst/>
            <a:rect l="l" t="t" r="r" b="b"/>
            <a:pathLst>
              <a:path w="4846" h="2854">
                <a:moveTo>
                  <a:pt x="0" y="2832"/>
                </a:moveTo>
                <a:lnTo>
                  <a:pt x="48" y="2835"/>
                </a:lnTo>
                <a:lnTo>
                  <a:pt x="93" y="2835"/>
                </a:lnTo>
                <a:lnTo>
                  <a:pt x="138" y="2805"/>
                </a:lnTo>
                <a:lnTo>
                  <a:pt x="258" y="2715"/>
                </a:lnTo>
                <a:lnTo>
                  <a:pt x="288" y="2670"/>
                </a:lnTo>
                <a:lnTo>
                  <a:pt x="318" y="2625"/>
                </a:lnTo>
                <a:lnTo>
                  <a:pt x="348" y="2550"/>
                </a:lnTo>
                <a:lnTo>
                  <a:pt x="438" y="2310"/>
                </a:lnTo>
                <a:lnTo>
                  <a:pt x="468" y="2130"/>
                </a:lnTo>
                <a:lnTo>
                  <a:pt x="483" y="1980"/>
                </a:lnTo>
                <a:lnTo>
                  <a:pt x="483" y="1830"/>
                </a:lnTo>
                <a:lnTo>
                  <a:pt x="498" y="1449"/>
                </a:lnTo>
                <a:lnTo>
                  <a:pt x="528" y="1200"/>
                </a:lnTo>
                <a:lnTo>
                  <a:pt x="624" y="768"/>
                </a:lnTo>
                <a:lnTo>
                  <a:pt x="816" y="288"/>
                </a:lnTo>
                <a:lnTo>
                  <a:pt x="903" y="126"/>
                </a:lnTo>
                <a:lnTo>
                  <a:pt x="1029" y="18"/>
                </a:lnTo>
                <a:lnTo>
                  <a:pt x="1104" y="0"/>
                </a:lnTo>
                <a:lnTo>
                  <a:pt x="1263" y="90"/>
                </a:lnTo>
                <a:lnTo>
                  <a:pt x="1425" y="351"/>
                </a:lnTo>
                <a:lnTo>
                  <a:pt x="1569" y="702"/>
                </a:lnTo>
                <a:lnTo>
                  <a:pt x="1695" y="1206"/>
                </a:lnTo>
                <a:lnTo>
                  <a:pt x="1878" y="1905"/>
                </a:lnTo>
                <a:lnTo>
                  <a:pt x="2028" y="2142"/>
                </a:lnTo>
                <a:lnTo>
                  <a:pt x="2388" y="2457"/>
                </a:lnTo>
                <a:lnTo>
                  <a:pt x="2865" y="2637"/>
                </a:lnTo>
                <a:lnTo>
                  <a:pt x="3279" y="2727"/>
                </a:lnTo>
                <a:lnTo>
                  <a:pt x="3801" y="2799"/>
                </a:lnTo>
                <a:lnTo>
                  <a:pt x="4845" y="2853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19240" y="2657520"/>
            <a:ext cx="7526160" cy="3035160"/>
          </a:xfrm>
          <a:custGeom>
            <a:avLst/>
            <a:gdLst/>
            <a:ahLst/>
            <a:rect l="l" t="t" r="r" b="b"/>
            <a:pathLst>
              <a:path w="4741" h="1912">
                <a:moveTo>
                  <a:pt x="0" y="1911"/>
                </a:moveTo>
                <a:lnTo>
                  <a:pt x="429" y="1719"/>
                </a:lnTo>
                <a:lnTo>
                  <a:pt x="636" y="1503"/>
                </a:lnTo>
                <a:lnTo>
                  <a:pt x="834" y="1188"/>
                </a:lnTo>
                <a:lnTo>
                  <a:pt x="969" y="981"/>
                </a:lnTo>
                <a:lnTo>
                  <a:pt x="1068" y="711"/>
                </a:lnTo>
                <a:lnTo>
                  <a:pt x="1221" y="450"/>
                </a:lnTo>
                <a:lnTo>
                  <a:pt x="1338" y="252"/>
                </a:lnTo>
                <a:lnTo>
                  <a:pt x="1536" y="99"/>
                </a:lnTo>
                <a:lnTo>
                  <a:pt x="1716" y="0"/>
                </a:lnTo>
                <a:lnTo>
                  <a:pt x="1923" y="27"/>
                </a:lnTo>
                <a:lnTo>
                  <a:pt x="2100" y="66"/>
                </a:lnTo>
                <a:lnTo>
                  <a:pt x="2274" y="216"/>
                </a:lnTo>
                <a:lnTo>
                  <a:pt x="2409" y="387"/>
                </a:lnTo>
                <a:lnTo>
                  <a:pt x="2616" y="639"/>
                </a:lnTo>
                <a:lnTo>
                  <a:pt x="2877" y="873"/>
                </a:lnTo>
                <a:lnTo>
                  <a:pt x="3066" y="1044"/>
                </a:lnTo>
                <a:lnTo>
                  <a:pt x="3291" y="1233"/>
                </a:lnTo>
                <a:lnTo>
                  <a:pt x="3597" y="1449"/>
                </a:lnTo>
                <a:lnTo>
                  <a:pt x="3831" y="1593"/>
                </a:lnTo>
                <a:lnTo>
                  <a:pt x="4245" y="1800"/>
                </a:lnTo>
                <a:lnTo>
                  <a:pt x="4740" y="1866"/>
                </a:lnTo>
              </a:path>
            </a:pathLst>
          </a:custGeom>
          <a:noFill/>
          <a:ln cap="rnd" w="50760">
            <a:solidFill>
              <a:srgbClr val="037c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69360" y="493560"/>
            <a:ext cx="1315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273 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69840" y="1946160"/>
            <a:ext cx="1544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7c03"/>
                </a:solidFill>
                <a:latin typeface="Times New Roman"/>
              </a:rPr>
              <a:t>1273 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43000" y="3643200"/>
            <a:ext cx="7597800" cy="2049480"/>
          </a:xfrm>
          <a:custGeom>
            <a:avLst/>
            <a:gdLst/>
            <a:ahLst/>
            <a:rect l="l" t="t" r="r" b="b"/>
            <a:pathLst>
              <a:path w="4786" h="1291">
                <a:moveTo>
                  <a:pt x="0" y="1290"/>
                </a:moveTo>
                <a:lnTo>
                  <a:pt x="45" y="1290"/>
                </a:lnTo>
                <a:lnTo>
                  <a:pt x="585" y="1200"/>
                </a:lnTo>
                <a:lnTo>
                  <a:pt x="795" y="1155"/>
                </a:lnTo>
                <a:lnTo>
                  <a:pt x="1095" y="1005"/>
                </a:lnTo>
                <a:lnTo>
                  <a:pt x="1455" y="765"/>
                </a:lnTo>
                <a:lnTo>
                  <a:pt x="1740" y="555"/>
                </a:lnTo>
                <a:lnTo>
                  <a:pt x="2055" y="285"/>
                </a:lnTo>
                <a:lnTo>
                  <a:pt x="2190" y="180"/>
                </a:lnTo>
                <a:lnTo>
                  <a:pt x="2550" y="0"/>
                </a:lnTo>
                <a:lnTo>
                  <a:pt x="2595" y="0"/>
                </a:lnTo>
                <a:lnTo>
                  <a:pt x="2715" y="0"/>
                </a:lnTo>
                <a:lnTo>
                  <a:pt x="2775" y="15"/>
                </a:lnTo>
                <a:lnTo>
                  <a:pt x="2925" y="60"/>
                </a:lnTo>
                <a:lnTo>
                  <a:pt x="3135" y="165"/>
                </a:lnTo>
                <a:lnTo>
                  <a:pt x="3345" y="345"/>
                </a:lnTo>
                <a:lnTo>
                  <a:pt x="3600" y="495"/>
                </a:lnTo>
                <a:lnTo>
                  <a:pt x="3900" y="690"/>
                </a:lnTo>
                <a:lnTo>
                  <a:pt x="4200" y="870"/>
                </a:lnTo>
                <a:lnTo>
                  <a:pt x="4380" y="1035"/>
                </a:lnTo>
                <a:lnTo>
                  <a:pt x="4590" y="1155"/>
                </a:lnTo>
                <a:lnTo>
                  <a:pt x="4785" y="1245"/>
                </a:lnTo>
              </a:path>
            </a:pathLst>
          </a:custGeom>
          <a:noFill/>
          <a:ln cap="rnd" w="507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431680" y="2874960"/>
            <a:ext cx="1544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63de8"/>
                </a:solidFill>
                <a:latin typeface="Times New Roman"/>
              </a:rPr>
              <a:t>2273 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elocit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verage increases as temperature increas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read increases as temperature increas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nomet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17680" y="2413080"/>
            <a:ext cx="1090800" cy="3244680"/>
          </a:xfrm>
          <a:custGeom>
            <a:avLst/>
            <a:gdLst/>
            <a:ahLst/>
            <a:rect l="l" t="t" r="r" b="b"/>
            <a:pathLst>
              <a:path w="687" h="2044">
                <a:moveTo>
                  <a:pt x="686" y="11"/>
                </a:moveTo>
                <a:lnTo>
                  <a:pt x="685" y="1672"/>
                </a:lnTo>
                <a:lnTo>
                  <a:pt x="684" y="1717"/>
                </a:lnTo>
                <a:lnTo>
                  <a:pt x="678" y="1759"/>
                </a:lnTo>
                <a:lnTo>
                  <a:pt x="668" y="1798"/>
                </a:lnTo>
                <a:lnTo>
                  <a:pt x="656" y="1835"/>
                </a:lnTo>
                <a:lnTo>
                  <a:pt x="640" y="1868"/>
                </a:lnTo>
                <a:lnTo>
                  <a:pt x="623" y="1898"/>
                </a:lnTo>
                <a:lnTo>
                  <a:pt x="602" y="1926"/>
                </a:lnTo>
                <a:lnTo>
                  <a:pt x="579" y="1950"/>
                </a:lnTo>
                <a:lnTo>
                  <a:pt x="553" y="1972"/>
                </a:lnTo>
                <a:lnTo>
                  <a:pt x="526" y="1991"/>
                </a:lnTo>
                <a:lnTo>
                  <a:pt x="499" y="2007"/>
                </a:lnTo>
                <a:lnTo>
                  <a:pt x="468" y="2020"/>
                </a:lnTo>
                <a:lnTo>
                  <a:pt x="438" y="2030"/>
                </a:lnTo>
                <a:lnTo>
                  <a:pt x="406" y="2038"/>
                </a:lnTo>
                <a:lnTo>
                  <a:pt x="375" y="2042"/>
                </a:lnTo>
                <a:lnTo>
                  <a:pt x="343" y="2043"/>
                </a:lnTo>
                <a:lnTo>
                  <a:pt x="310" y="2041"/>
                </a:lnTo>
                <a:lnTo>
                  <a:pt x="279" y="2037"/>
                </a:lnTo>
                <a:lnTo>
                  <a:pt x="247" y="2029"/>
                </a:lnTo>
                <a:lnTo>
                  <a:pt x="217" y="2018"/>
                </a:lnTo>
                <a:lnTo>
                  <a:pt x="186" y="2004"/>
                </a:lnTo>
                <a:lnTo>
                  <a:pt x="159" y="1987"/>
                </a:lnTo>
                <a:lnTo>
                  <a:pt x="132" y="1968"/>
                </a:lnTo>
                <a:lnTo>
                  <a:pt x="107" y="1944"/>
                </a:lnTo>
                <a:lnTo>
                  <a:pt x="83" y="1918"/>
                </a:lnTo>
                <a:lnTo>
                  <a:pt x="63" y="1889"/>
                </a:lnTo>
                <a:lnTo>
                  <a:pt x="45" y="1858"/>
                </a:lnTo>
                <a:lnTo>
                  <a:pt x="29" y="1823"/>
                </a:lnTo>
                <a:lnTo>
                  <a:pt x="17" y="1784"/>
                </a:lnTo>
                <a:lnTo>
                  <a:pt x="7" y="1743"/>
                </a:lnTo>
                <a:lnTo>
                  <a:pt x="2" y="1698"/>
                </a:lnTo>
                <a:lnTo>
                  <a:pt x="0" y="1651"/>
                </a:lnTo>
                <a:lnTo>
                  <a:pt x="0" y="1602"/>
                </a:lnTo>
                <a:lnTo>
                  <a:pt x="0" y="1561"/>
                </a:lnTo>
                <a:lnTo>
                  <a:pt x="0" y="1528"/>
                </a:lnTo>
                <a:lnTo>
                  <a:pt x="0" y="1500"/>
                </a:lnTo>
                <a:lnTo>
                  <a:pt x="0" y="1479"/>
                </a:lnTo>
                <a:lnTo>
                  <a:pt x="0" y="1463"/>
                </a:lnTo>
                <a:lnTo>
                  <a:pt x="0" y="1452"/>
                </a:lnTo>
                <a:lnTo>
                  <a:pt x="0" y="1445"/>
                </a:lnTo>
                <a:lnTo>
                  <a:pt x="0" y="1443"/>
                </a:lnTo>
                <a:lnTo>
                  <a:pt x="0" y="1444"/>
                </a:lnTo>
                <a:lnTo>
                  <a:pt x="0" y="1448"/>
                </a:lnTo>
                <a:lnTo>
                  <a:pt x="0" y="1454"/>
                </a:lnTo>
                <a:lnTo>
                  <a:pt x="0" y="1463"/>
                </a:lnTo>
                <a:lnTo>
                  <a:pt x="0" y="1473"/>
                </a:lnTo>
                <a:lnTo>
                  <a:pt x="1" y="1484"/>
                </a:lnTo>
                <a:lnTo>
                  <a:pt x="1" y="1496"/>
                </a:lnTo>
                <a:lnTo>
                  <a:pt x="1" y="1507"/>
                </a:lnTo>
                <a:lnTo>
                  <a:pt x="1" y="1518"/>
                </a:lnTo>
                <a:lnTo>
                  <a:pt x="1" y="1528"/>
                </a:lnTo>
                <a:lnTo>
                  <a:pt x="1" y="1536"/>
                </a:lnTo>
                <a:lnTo>
                  <a:pt x="1" y="1542"/>
                </a:lnTo>
                <a:lnTo>
                  <a:pt x="1" y="1546"/>
                </a:lnTo>
                <a:lnTo>
                  <a:pt x="1" y="1547"/>
                </a:lnTo>
                <a:lnTo>
                  <a:pt x="1" y="1544"/>
                </a:lnTo>
                <a:lnTo>
                  <a:pt x="1" y="1537"/>
                </a:lnTo>
                <a:lnTo>
                  <a:pt x="1" y="1527"/>
                </a:lnTo>
                <a:lnTo>
                  <a:pt x="1" y="1511"/>
                </a:lnTo>
                <a:lnTo>
                  <a:pt x="1" y="1489"/>
                </a:lnTo>
                <a:lnTo>
                  <a:pt x="1" y="1461"/>
                </a:lnTo>
                <a:lnTo>
                  <a:pt x="1" y="1427"/>
                </a:lnTo>
                <a:lnTo>
                  <a:pt x="1" y="1385"/>
                </a:lnTo>
                <a:lnTo>
                  <a:pt x="1" y="1336"/>
                </a:lnTo>
                <a:lnTo>
                  <a:pt x="7" y="1334"/>
                </a:lnTo>
                <a:lnTo>
                  <a:pt x="14" y="1333"/>
                </a:lnTo>
                <a:lnTo>
                  <a:pt x="20" y="1332"/>
                </a:lnTo>
                <a:lnTo>
                  <a:pt x="27" y="1331"/>
                </a:lnTo>
                <a:lnTo>
                  <a:pt x="33" y="1330"/>
                </a:lnTo>
                <a:lnTo>
                  <a:pt x="38" y="1329"/>
                </a:lnTo>
                <a:lnTo>
                  <a:pt x="45" y="1329"/>
                </a:lnTo>
                <a:lnTo>
                  <a:pt x="51" y="1329"/>
                </a:lnTo>
                <a:lnTo>
                  <a:pt x="57" y="1330"/>
                </a:lnTo>
                <a:lnTo>
                  <a:pt x="62" y="1330"/>
                </a:lnTo>
                <a:lnTo>
                  <a:pt x="68" y="1331"/>
                </a:lnTo>
                <a:lnTo>
                  <a:pt x="74" y="1332"/>
                </a:lnTo>
                <a:lnTo>
                  <a:pt x="81" y="1334"/>
                </a:lnTo>
                <a:lnTo>
                  <a:pt x="88" y="1336"/>
                </a:lnTo>
                <a:lnTo>
                  <a:pt x="95" y="1338"/>
                </a:lnTo>
                <a:lnTo>
                  <a:pt x="102" y="1340"/>
                </a:lnTo>
                <a:lnTo>
                  <a:pt x="102" y="1390"/>
                </a:lnTo>
                <a:lnTo>
                  <a:pt x="102" y="1432"/>
                </a:lnTo>
                <a:lnTo>
                  <a:pt x="102" y="1467"/>
                </a:lnTo>
                <a:lnTo>
                  <a:pt x="102" y="1496"/>
                </a:lnTo>
                <a:lnTo>
                  <a:pt x="103" y="1518"/>
                </a:lnTo>
                <a:lnTo>
                  <a:pt x="103" y="1533"/>
                </a:lnTo>
                <a:lnTo>
                  <a:pt x="103" y="1545"/>
                </a:lnTo>
                <a:lnTo>
                  <a:pt x="103" y="1552"/>
                </a:lnTo>
                <a:lnTo>
                  <a:pt x="102" y="1555"/>
                </a:lnTo>
                <a:lnTo>
                  <a:pt x="102" y="1554"/>
                </a:lnTo>
                <a:lnTo>
                  <a:pt x="102" y="1550"/>
                </a:lnTo>
                <a:lnTo>
                  <a:pt x="102" y="1544"/>
                </a:lnTo>
                <a:lnTo>
                  <a:pt x="102" y="1535"/>
                </a:lnTo>
                <a:lnTo>
                  <a:pt x="102" y="1526"/>
                </a:lnTo>
                <a:lnTo>
                  <a:pt x="102" y="1515"/>
                </a:lnTo>
                <a:lnTo>
                  <a:pt x="102" y="1504"/>
                </a:lnTo>
                <a:lnTo>
                  <a:pt x="102" y="1492"/>
                </a:lnTo>
                <a:lnTo>
                  <a:pt x="102" y="1481"/>
                </a:lnTo>
                <a:lnTo>
                  <a:pt x="102" y="1471"/>
                </a:lnTo>
                <a:lnTo>
                  <a:pt x="102" y="1463"/>
                </a:lnTo>
                <a:lnTo>
                  <a:pt x="102" y="1456"/>
                </a:lnTo>
                <a:lnTo>
                  <a:pt x="102" y="1453"/>
                </a:lnTo>
                <a:lnTo>
                  <a:pt x="102" y="1452"/>
                </a:lnTo>
                <a:lnTo>
                  <a:pt x="102" y="1455"/>
                </a:lnTo>
                <a:lnTo>
                  <a:pt x="101" y="1462"/>
                </a:lnTo>
                <a:lnTo>
                  <a:pt x="101" y="1473"/>
                </a:lnTo>
                <a:lnTo>
                  <a:pt x="101" y="1490"/>
                </a:lnTo>
                <a:lnTo>
                  <a:pt x="101" y="1512"/>
                </a:lnTo>
                <a:lnTo>
                  <a:pt x="101" y="1539"/>
                </a:lnTo>
                <a:lnTo>
                  <a:pt x="101" y="1574"/>
                </a:lnTo>
                <a:lnTo>
                  <a:pt x="101" y="1616"/>
                </a:lnTo>
                <a:lnTo>
                  <a:pt x="101" y="1667"/>
                </a:lnTo>
                <a:lnTo>
                  <a:pt x="105" y="1702"/>
                </a:lnTo>
                <a:lnTo>
                  <a:pt x="110" y="1735"/>
                </a:lnTo>
                <a:lnTo>
                  <a:pt x="118" y="1766"/>
                </a:lnTo>
                <a:lnTo>
                  <a:pt x="128" y="1795"/>
                </a:lnTo>
                <a:lnTo>
                  <a:pt x="140" y="1822"/>
                </a:lnTo>
                <a:lnTo>
                  <a:pt x="153" y="1847"/>
                </a:lnTo>
                <a:lnTo>
                  <a:pt x="168" y="1869"/>
                </a:lnTo>
                <a:lnTo>
                  <a:pt x="184" y="1888"/>
                </a:lnTo>
                <a:lnTo>
                  <a:pt x="201" y="1906"/>
                </a:lnTo>
                <a:lnTo>
                  <a:pt x="220" y="1922"/>
                </a:lnTo>
                <a:lnTo>
                  <a:pt x="240" y="1935"/>
                </a:lnTo>
                <a:lnTo>
                  <a:pt x="260" y="1947"/>
                </a:lnTo>
                <a:lnTo>
                  <a:pt x="281" y="1956"/>
                </a:lnTo>
                <a:lnTo>
                  <a:pt x="302" y="1962"/>
                </a:lnTo>
                <a:lnTo>
                  <a:pt x="324" y="1967"/>
                </a:lnTo>
                <a:lnTo>
                  <a:pt x="345" y="1969"/>
                </a:lnTo>
                <a:lnTo>
                  <a:pt x="367" y="1969"/>
                </a:lnTo>
                <a:lnTo>
                  <a:pt x="389" y="1966"/>
                </a:lnTo>
                <a:lnTo>
                  <a:pt x="410" y="1961"/>
                </a:lnTo>
                <a:lnTo>
                  <a:pt x="430" y="1954"/>
                </a:lnTo>
                <a:lnTo>
                  <a:pt x="450" y="1944"/>
                </a:lnTo>
                <a:lnTo>
                  <a:pt x="470" y="1933"/>
                </a:lnTo>
                <a:lnTo>
                  <a:pt x="488" y="1918"/>
                </a:lnTo>
                <a:lnTo>
                  <a:pt x="506" y="1901"/>
                </a:lnTo>
                <a:lnTo>
                  <a:pt x="521" y="1883"/>
                </a:lnTo>
                <a:lnTo>
                  <a:pt x="535" y="1862"/>
                </a:lnTo>
                <a:lnTo>
                  <a:pt x="548" y="1838"/>
                </a:lnTo>
                <a:lnTo>
                  <a:pt x="559" y="1812"/>
                </a:lnTo>
                <a:lnTo>
                  <a:pt x="569" y="1783"/>
                </a:lnTo>
                <a:lnTo>
                  <a:pt x="576" y="1751"/>
                </a:lnTo>
                <a:lnTo>
                  <a:pt x="580" y="1718"/>
                </a:lnTo>
                <a:lnTo>
                  <a:pt x="583" y="1681"/>
                </a:lnTo>
                <a:lnTo>
                  <a:pt x="583" y="1671"/>
                </a:lnTo>
                <a:lnTo>
                  <a:pt x="583" y="1652"/>
                </a:lnTo>
                <a:lnTo>
                  <a:pt x="583" y="1626"/>
                </a:lnTo>
                <a:lnTo>
                  <a:pt x="583" y="1593"/>
                </a:lnTo>
                <a:lnTo>
                  <a:pt x="583" y="1554"/>
                </a:lnTo>
                <a:lnTo>
                  <a:pt x="583" y="1509"/>
                </a:lnTo>
                <a:lnTo>
                  <a:pt x="583" y="1458"/>
                </a:lnTo>
                <a:lnTo>
                  <a:pt x="583" y="1402"/>
                </a:lnTo>
                <a:lnTo>
                  <a:pt x="583" y="1342"/>
                </a:lnTo>
                <a:lnTo>
                  <a:pt x="583" y="1278"/>
                </a:lnTo>
                <a:lnTo>
                  <a:pt x="583" y="1211"/>
                </a:lnTo>
                <a:lnTo>
                  <a:pt x="583" y="1142"/>
                </a:lnTo>
                <a:lnTo>
                  <a:pt x="583" y="1070"/>
                </a:lnTo>
                <a:lnTo>
                  <a:pt x="583" y="996"/>
                </a:lnTo>
                <a:lnTo>
                  <a:pt x="583" y="921"/>
                </a:lnTo>
                <a:lnTo>
                  <a:pt x="583" y="847"/>
                </a:lnTo>
                <a:lnTo>
                  <a:pt x="583" y="772"/>
                </a:lnTo>
                <a:lnTo>
                  <a:pt x="583" y="696"/>
                </a:lnTo>
                <a:lnTo>
                  <a:pt x="583" y="623"/>
                </a:lnTo>
                <a:lnTo>
                  <a:pt x="583" y="551"/>
                </a:lnTo>
                <a:lnTo>
                  <a:pt x="583" y="482"/>
                </a:lnTo>
                <a:lnTo>
                  <a:pt x="583" y="414"/>
                </a:lnTo>
                <a:lnTo>
                  <a:pt x="583" y="351"/>
                </a:lnTo>
                <a:lnTo>
                  <a:pt x="583" y="291"/>
                </a:lnTo>
                <a:lnTo>
                  <a:pt x="583" y="234"/>
                </a:lnTo>
                <a:lnTo>
                  <a:pt x="583" y="183"/>
                </a:lnTo>
                <a:lnTo>
                  <a:pt x="583" y="139"/>
                </a:lnTo>
                <a:lnTo>
                  <a:pt x="583" y="99"/>
                </a:lnTo>
                <a:lnTo>
                  <a:pt x="583" y="66"/>
                </a:lnTo>
                <a:lnTo>
                  <a:pt x="583" y="40"/>
                </a:lnTo>
                <a:lnTo>
                  <a:pt x="583" y="22"/>
                </a:lnTo>
                <a:lnTo>
                  <a:pt x="583" y="11"/>
                </a:lnTo>
                <a:lnTo>
                  <a:pt x="591" y="8"/>
                </a:lnTo>
                <a:lnTo>
                  <a:pt x="599" y="7"/>
                </a:lnTo>
                <a:lnTo>
                  <a:pt x="606" y="5"/>
                </a:lnTo>
                <a:lnTo>
                  <a:pt x="613" y="3"/>
                </a:lnTo>
                <a:lnTo>
                  <a:pt x="619" y="2"/>
                </a:lnTo>
                <a:lnTo>
                  <a:pt x="624" y="1"/>
                </a:lnTo>
                <a:lnTo>
                  <a:pt x="629" y="1"/>
                </a:lnTo>
                <a:lnTo>
                  <a:pt x="635" y="0"/>
                </a:lnTo>
                <a:lnTo>
                  <a:pt x="640" y="1"/>
                </a:lnTo>
                <a:lnTo>
                  <a:pt x="645" y="1"/>
                </a:lnTo>
                <a:lnTo>
                  <a:pt x="651" y="2"/>
                </a:lnTo>
                <a:lnTo>
                  <a:pt x="657" y="4"/>
                </a:lnTo>
                <a:lnTo>
                  <a:pt x="663" y="5"/>
                </a:lnTo>
                <a:lnTo>
                  <a:pt x="670" y="7"/>
                </a:lnTo>
                <a:lnTo>
                  <a:pt x="678" y="9"/>
                </a:lnTo>
                <a:lnTo>
                  <a:pt x="686" y="11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11560" y="2432160"/>
            <a:ext cx="1099800" cy="3254400"/>
          </a:xfrm>
          <a:custGeom>
            <a:avLst/>
            <a:gdLst/>
            <a:ahLst/>
            <a:rect l="l" t="t" r="r" b="b"/>
            <a:pathLst>
              <a:path w="693" h="2050">
                <a:moveTo>
                  <a:pt x="692" y="11"/>
                </a:moveTo>
                <a:lnTo>
                  <a:pt x="691" y="1677"/>
                </a:lnTo>
                <a:lnTo>
                  <a:pt x="690" y="1722"/>
                </a:lnTo>
                <a:lnTo>
                  <a:pt x="684" y="1764"/>
                </a:lnTo>
                <a:lnTo>
                  <a:pt x="674" y="1803"/>
                </a:lnTo>
                <a:lnTo>
                  <a:pt x="662" y="1840"/>
                </a:lnTo>
                <a:lnTo>
                  <a:pt x="646" y="1873"/>
                </a:lnTo>
                <a:lnTo>
                  <a:pt x="628" y="1904"/>
                </a:lnTo>
                <a:lnTo>
                  <a:pt x="607" y="1932"/>
                </a:lnTo>
                <a:lnTo>
                  <a:pt x="584" y="1956"/>
                </a:lnTo>
                <a:lnTo>
                  <a:pt x="558" y="1978"/>
                </a:lnTo>
                <a:lnTo>
                  <a:pt x="531" y="1997"/>
                </a:lnTo>
                <a:lnTo>
                  <a:pt x="503" y="2013"/>
                </a:lnTo>
                <a:lnTo>
                  <a:pt x="472" y="2026"/>
                </a:lnTo>
                <a:lnTo>
                  <a:pt x="442" y="2036"/>
                </a:lnTo>
                <a:lnTo>
                  <a:pt x="410" y="2044"/>
                </a:lnTo>
                <a:lnTo>
                  <a:pt x="378" y="2048"/>
                </a:lnTo>
                <a:lnTo>
                  <a:pt x="346" y="2049"/>
                </a:lnTo>
                <a:lnTo>
                  <a:pt x="313" y="2047"/>
                </a:lnTo>
                <a:lnTo>
                  <a:pt x="281" y="2043"/>
                </a:lnTo>
                <a:lnTo>
                  <a:pt x="249" y="2035"/>
                </a:lnTo>
                <a:lnTo>
                  <a:pt x="219" y="2024"/>
                </a:lnTo>
                <a:lnTo>
                  <a:pt x="188" y="2010"/>
                </a:lnTo>
                <a:lnTo>
                  <a:pt x="160" y="1993"/>
                </a:lnTo>
                <a:lnTo>
                  <a:pt x="133" y="1974"/>
                </a:lnTo>
                <a:lnTo>
                  <a:pt x="108" y="1950"/>
                </a:lnTo>
                <a:lnTo>
                  <a:pt x="84" y="1924"/>
                </a:lnTo>
                <a:lnTo>
                  <a:pt x="64" y="1895"/>
                </a:lnTo>
                <a:lnTo>
                  <a:pt x="45" y="1863"/>
                </a:lnTo>
                <a:lnTo>
                  <a:pt x="29" y="1828"/>
                </a:lnTo>
                <a:lnTo>
                  <a:pt x="17" y="1789"/>
                </a:lnTo>
                <a:lnTo>
                  <a:pt x="7" y="1748"/>
                </a:lnTo>
                <a:lnTo>
                  <a:pt x="2" y="1703"/>
                </a:lnTo>
                <a:lnTo>
                  <a:pt x="0" y="1656"/>
                </a:lnTo>
                <a:lnTo>
                  <a:pt x="0" y="1607"/>
                </a:lnTo>
                <a:lnTo>
                  <a:pt x="0" y="1566"/>
                </a:lnTo>
                <a:lnTo>
                  <a:pt x="0" y="1532"/>
                </a:lnTo>
                <a:lnTo>
                  <a:pt x="0" y="1504"/>
                </a:lnTo>
                <a:lnTo>
                  <a:pt x="0" y="1483"/>
                </a:lnTo>
                <a:lnTo>
                  <a:pt x="0" y="1467"/>
                </a:lnTo>
                <a:lnTo>
                  <a:pt x="0" y="1456"/>
                </a:lnTo>
                <a:lnTo>
                  <a:pt x="0" y="1449"/>
                </a:lnTo>
                <a:lnTo>
                  <a:pt x="0" y="1447"/>
                </a:lnTo>
                <a:lnTo>
                  <a:pt x="0" y="1448"/>
                </a:lnTo>
                <a:lnTo>
                  <a:pt x="0" y="1452"/>
                </a:lnTo>
                <a:lnTo>
                  <a:pt x="0" y="1458"/>
                </a:lnTo>
                <a:lnTo>
                  <a:pt x="0" y="1467"/>
                </a:lnTo>
                <a:lnTo>
                  <a:pt x="0" y="1477"/>
                </a:lnTo>
                <a:lnTo>
                  <a:pt x="1" y="1488"/>
                </a:lnTo>
                <a:lnTo>
                  <a:pt x="1" y="1500"/>
                </a:lnTo>
                <a:lnTo>
                  <a:pt x="1" y="1511"/>
                </a:lnTo>
                <a:lnTo>
                  <a:pt x="1" y="1522"/>
                </a:lnTo>
                <a:lnTo>
                  <a:pt x="1" y="1532"/>
                </a:lnTo>
                <a:lnTo>
                  <a:pt x="1" y="1541"/>
                </a:lnTo>
                <a:lnTo>
                  <a:pt x="1" y="1547"/>
                </a:lnTo>
                <a:lnTo>
                  <a:pt x="1" y="1551"/>
                </a:lnTo>
                <a:lnTo>
                  <a:pt x="1" y="1552"/>
                </a:lnTo>
                <a:lnTo>
                  <a:pt x="1" y="1549"/>
                </a:lnTo>
                <a:lnTo>
                  <a:pt x="1" y="1542"/>
                </a:lnTo>
                <a:lnTo>
                  <a:pt x="1" y="1531"/>
                </a:lnTo>
                <a:lnTo>
                  <a:pt x="1" y="1515"/>
                </a:lnTo>
                <a:lnTo>
                  <a:pt x="1" y="1493"/>
                </a:lnTo>
                <a:lnTo>
                  <a:pt x="1" y="1465"/>
                </a:lnTo>
                <a:lnTo>
                  <a:pt x="1" y="1431"/>
                </a:lnTo>
                <a:lnTo>
                  <a:pt x="1" y="1389"/>
                </a:lnTo>
                <a:lnTo>
                  <a:pt x="1" y="1340"/>
                </a:lnTo>
                <a:lnTo>
                  <a:pt x="7" y="1338"/>
                </a:lnTo>
                <a:lnTo>
                  <a:pt x="14" y="1337"/>
                </a:lnTo>
                <a:lnTo>
                  <a:pt x="20" y="1336"/>
                </a:lnTo>
                <a:lnTo>
                  <a:pt x="27" y="1335"/>
                </a:lnTo>
                <a:lnTo>
                  <a:pt x="33" y="1334"/>
                </a:lnTo>
                <a:lnTo>
                  <a:pt x="38" y="1333"/>
                </a:lnTo>
                <a:lnTo>
                  <a:pt x="45" y="1333"/>
                </a:lnTo>
                <a:lnTo>
                  <a:pt x="51" y="1333"/>
                </a:lnTo>
                <a:lnTo>
                  <a:pt x="57" y="1334"/>
                </a:lnTo>
                <a:lnTo>
                  <a:pt x="63" y="1334"/>
                </a:lnTo>
                <a:lnTo>
                  <a:pt x="69" y="1335"/>
                </a:lnTo>
                <a:lnTo>
                  <a:pt x="75" y="1336"/>
                </a:lnTo>
                <a:lnTo>
                  <a:pt x="82" y="1338"/>
                </a:lnTo>
                <a:lnTo>
                  <a:pt x="89" y="1340"/>
                </a:lnTo>
                <a:lnTo>
                  <a:pt x="96" y="1342"/>
                </a:lnTo>
                <a:lnTo>
                  <a:pt x="103" y="1344"/>
                </a:lnTo>
                <a:lnTo>
                  <a:pt x="103" y="1394"/>
                </a:lnTo>
                <a:lnTo>
                  <a:pt x="103" y="1436"/>
                </a:lnTo>
                <a:lnTo>
                  <a:pt x="103" y="1471"/>
                </a:lnTo>
                <a:lnTo>
                  <a:pt x="103" y="1500"/>
                </a:lnTo>
                <a:lnTo>
                  <a:pt x="104" y="1522"/>
                </a:lnTo>
                <a:lnTo>
                  <a:pt x="104" y="1538"/>
                </a:lnTo>
                <a:lnTo>
                  <a:pt x="104" y="1550"/>
                </a:lnTo>
                <a:lnTo>
                  <a:pt x="104" y="1557"/>
                </a:lnTo>
                <a:lnTo>
                  <a:pt x="103" y="1560"/>
                </a:lnTo>
                <a:lnTo>
                  <a:pt x="103" y="1559"/>
                </a:lnTo>
                <a:lnTo>
                  <a:pt x="103" y="1555"/>
                </a:lnTo>
                <a:lnTo>
                  <a:pt x="103" y="1549"/>
                </a:lnTo>
                <a:lnTo>
                  <a:pt x="103" y="1540"/>
                </a:lnTo>
                <a:lnTo>
                  <a:pt x="103" y="1530"/>
                </a:lnTo>
                <a:lnTo>
                  <a:pt x="103" y="1519"/>
                </a:lnTo>
                <a:lnTo>
                  <a:pt x="103" y="1508"/>
                </a:lnTo>
                <a:lnTo>
                  <a:pt x="103" y="1496"/>
                </a:lnTo>
                <a:lnTo>
                  <a:pt x="103" y="1485"/>
                </a:lnTo>
                <a:lnTo>
                  <a:pt x="103" y="1475"/>
                </a:lnTo>
                <a:lnTo>
                  <a:pt x="103" y="1467"/>
                </a:lnTo>
                <a:lnTo>
                  <a:pt x="103" y="1460"/>
                </a:lnTo>
                <a:lnTo>
                  <a:pt x="103" y="1457"/>
                </a:lnTo>
                <a:lnTo>
                  <a:pt x="103" y="1456"/>
                </a:lnTo>
                <a:lnTo>
                  <a:pt x="103" y="1459"/>
                </a:lnTo>
                <a:lnTo>
                  <a:pt x="102" y="1466"/>
                </a:lnTo>
                <a:lnTo>
                  <a:pt x="102" y="1477"/>
                </a:lnTo>
                <a:lnTo>
                  <a:pt x="102" y="1494"/>
                </a:lnTo>
                <a:lnTo>
                  <a:pt x="102" y="1516"/>
                </a:lnTo>
                <a:lnTo>
                  <a:pt x="102" y="1544"/>
                </a:lnTo>
                <a:lnTo>
                  <a:pt x="102" y="1579"/>
                </a:lnTo>
                <a:lnTo>
                  <a:pt x="102" y="1621"/>
                </a:lnTo>
                <a:lnTo>
                  <a:pt x="102" y="1672"/>
                </a:lnTo>
                <a:lnTo>
                  <a:pt x="106" y="1707"/>
                </a:lnTo>
                <a:lnTo>
                  <a:pt x="111" y="1740"/>
                </a:lnTo>
                <a:lnTo>
                  <a:pt x="119" y="1771"/>
                </a:lnTo>
                <a:lnTo>
                  <a:pt x="129" y="1800"/>
                </a:lnTo>
                <a:lnTo>
                  <a:pt x="141" y="1827"/>
                </a:lnTo>
                <a:lnTo>
                  <a:pt x="154" y="1852"/>
                </a:lnTo>
                <a:lnTo>
                  <a:pt x="169" y="1874"/>
                </a:lnTo>
                <a:lnTo>
                  <a:pt x="186" y="1894"/>
                </a:lnTo>
                <a:lnTo>
                  <a:pt x="203" y="1912"/>
                </a:lnTo>
                <a:lnTo>
                  <a:pt x="222" y="1928"/>
                </a:lnTo>
                <a:lnTo>
                  <a:pt x="242" y="1941"/>
                </a:lnTo>
                <a:lnTo>
                  <a:pt x="262" y="1953"/>
                </a:lnTo>
                <a:lnTo>
                  <a:pt x="283" y="1962"/>
                </a:lnTo>
                <a:lnTo>
                  <a:pt x="305" y="1968"/>
                </a:lnTo>
                <a:lnTo>
                  <a:pt x="327" y="1973"/>
                </a:lnTo>
                <a:lnTo>
                  <a:pt x="348" y="1975"/>
                </a:lnTo>
                <a:lnTo>
                  <a:pt x="370" y="1975"/>
                </a:lnTo>
                <a:lnTo>
                  <a:pt x="392" y="1972"/>
                </a:lnTo>
                <a:lnTo>
                  <a:pt x="414" y="1967"/>
                </a:lnTo>
                <a:lnTo>
                  <a:pt x="434" y="1960"/>
                </a:lnTo>
                <a:lnTo>
                  <a:pt x="454" y="1950"/>
                </a:lnTo>
                <a:lnTo>
                  <a:pt x="474" y="1939"/>
                </a:lnTo>
                <a:lnTo>
                  <a:pt x="492" y="1924"/>
                </a:lnTo>
                <a:lnTo>
                  <a:pt x="510" y="1907"/>
                </a:lnTo>
                <a:lnTo>
                  <a:pt x="526" y="1889"/>
                </a:lnTo>
                <a:lnTo>
                  <a:pt x="540" y="1867"/>
                </a:lnTo>
                <a:lnTo>
                  <a:pt x="553" y="1843"/>
                </a:lnTo>
                <a:lnTo>
                  <a:pt x="564" y="1817"/>
                </a:lnTo>
                <a:lnTo>
                  <a:pt x="574" y="1788"/>
                </a:lnTo>
                <a:lnTo>
                  <a:pt x="581" y="1756"/>
                </a:lnTo>
                <a:lnTo>
                  <a:pt x="585" y="1723"/>
                </a:lnTo>
                <a:lnTo>
                  <a:pt x="588" y="1686"/>
                </a:lnTo>
                <a:lnTo>
                  <a:pt x="588" y="1676"/>
                </a:lnTo>
                <a:lnTo>
                  <a:pt x="588" y="1657"/>
                </a:lnTo>
                <a:lnTo>
                  <a:pt x="588" y="1631"/>
                </a:lnTo>
                <a:lnTo>
                  <a:pt x="588" y="1598"/>
                </a:lnTo>
                <a:lnTo>
                  <a:pt x="588" y="1559"/>
                </a:lnTo>
                <a:lnTo>
                  <a:pt x="588" y="1513"/>
                </a:lnTo>
                <a:lnTo>
                  <a:pt x="588" y="1462"/>
                </a:lnTo>
                <a:lnTo>
                  <a:pt x="588" y="1406"/>
                </a:lnTo>
                <a:lnTo>
                  <a:pt x="588" y="1346"/>
                </a:lnTo>
                <a:lnTo>
                  <a:pt x="588" y="1282"/>
                </a:lnTo>
                <a:lnTo>
                  <a:pt x="588" y="1215"/>
                </a:lnTo>
                <a:lnTo>
                  <a:pt x="588" y="1145"/>
                </a:lnTo>
                <a:lnTo>
                  <a:pt x="588" y="1073"/>
                </a:lnTo>
                <a:lnTo>
                  <a:pt x="588" y="999"/>
                </a:lnTo>
                <a:lnTo>
                  <a:pt x="588" y="924"/>
                </a:lnTo>
                <a:lnTo>
                  <a:pt x="588" y="849"/>
                </a:lnTo>
                <a:lnTo>
                  <a:pt x="588" y="774"/>
                </a:lnTo>
                <a:lnTo>
                  <a:pt x="588" y="698"/>
                </a:lnTo>
                <a:lnTo>
                  <a:pt x="588" y="625"/>
                </a:lnTo>
                <a:lnTo>
                  <a:pt x="588" y="553"/>
                </a:lnTo>
                <a:lnTo>
                  <a:pt x="588" y="483"/>
                </a:lnTo>
                <a:lnTo>
                  <a:pt x="588" y="415"/>
                </a:lnTo>
                <a:lnTo>
                  <a:pt x="588" y="352"/>
                </a:lnTo>
                <a:lnTo>
                  <a:pt x="588" y="292"/>
                </a:lnTo>
                <a:lnTo>
                  <a:pt x="588" y="235"/>
                </a:lnTo>
                <a:lnTo>
                  <a:pt x="588" y="184"/>
                </a:lnTo>
                <a:lnTo>
                  <a:pt x="588" y="139"/>
                </a:lnTo>
                <a:lnTo>
                  <a:pt x="588" y="99"/>
                </a:lnTo>
                <a:lnTo>
                  <a:pt x="588" y="66"/>
                </a:lnTo>
                <a:lnTo>
                  <a:pt x="588" y="40"/>
                </a:lnTo>
                <a:lnTo>
                  <a:pt x="588" y="22"/>
                </a:lnTo>
                <a:lnTo>
                  <a:pt x="588" y="11"/>
                </a:lnTo>
                <a:lnTo>
                  <a:pt x="596" y="8"/>
                </a:lnTo>
                <a:lnTo>
                  <a:pt x="604" y="7"/>
                </a:lnTo>
                <a:lnTo>
                  <a:pt x="611" y="5"/>
                </a:lnTo>
                <a:lnTo>
                  <a:pt x="618" y="3"/>
                </a:lnTo>
                <a:lnTo>
                  <a:pt x="624" y="2"/>
                </a:lnTo>
                <a:lnTo>
                  <a:pt x="629" y="1"/>
                </a:lnTo>
                <a:lnTo>
                  <a:pt x="635" y="1"/>
                </a:lnTo>
                <a:lnTo>
                  <a:pt x="641" y="0"/>
                </a:lnTo>
                <a:lnTo>
                  <a:pt x="646" y="1"/>
                </a:lnTo>
                <a:lnTo>
                  <a:pt x="651" y="1"/>
                </a:lnTo>
                <a:lnTo>
                  <a:pt x="657" y="2"/>
                </a:lnTo>
                <a:lnTo>
                  <a:pt x="663" y="4"/>
                </a:lnTo>
                <a:lnTo>
                  <a:pt x="669" y="5"/>
                </a:lnTo>
                <a:lnTo>
                  <a:pt x="676" y="7"/>
                </a:lnTo>
                <a:lnTo>
                  <a:pt x="684" y="9"/>
                </a:lnTo>
                <a:lnTo>
                  <a:pt x="692" y="1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38560" y="1506600"/>
            <a:ext cx="156960" cy="928800"/>
          </a:xfrm>
          <a:custGeom>
            <a:avLst/>
            <a:gdLst/>
            <a:ahLst/>
            <a:rect l="l" t="t" r="r" b="b"/>
            <a:pathLst>
              <a:path w="99" h="585">
                <a:moveTo>
                  <a:pt x="0" y="583"/>
                </a:moveTo>
                <a:lnTo>
                  <a:pt x="2" y="0"/>
                </a:lnTo>
                <a:lnTo>
                  <a:pt x="98" y="1"/>
                </a:lnTo>
                <a:lnTo>
                  <a:pt x="98" y="68"/>
                </a:lnTo>
                <a:lnTo>
                  <a:pt x="98" y="125"/>
                </a:lnTo>
                <a:lnTo>
                  <a:pt x="98" y="173"/>
                </a:lnTo>
                <a:lnTo>
                  <a:pt x="98" y="214"/>
                </a:lnTo>
                <a:lnTo>
                  <a:pt x="98" y="247"/>
                </a:lnTo>
                <a:lnTo>
                  <a:pt x="98" y="273"/>
                </a:lnTo>
                <a:lnTo>
                  <a:pt x="97" y="293"/>
                </a:lnTo>
                <a:lnTo>
                  <a:pt x="97" y="307"/>
                </a:lnTo>
                <a:lnTo>
                  <a:pt x="97" y="316"/>
                </a:lnTo>
                <a:lnTo>
                  <a:pt x="97" y="321"/>
                </a:lnTo>
                <a:lnTo>
                  <a:pt x="97" y="322"/>
                </a:lnTo>
                <a:lnTo>
                  <a:pt x="97" y="320"/>
                </a:lnTo>
                <a:lnTo>
                  <a:pt x="97" y="316"/>
                </a:lnTo>
                <a:lnTo>
                  <a:pt x="97" y="309"/>
                </a:lnTo>
                <a:lnTo>
                  <a:pt x="98" y="301"/>
                </a:lnTo>
                <a:lnTo>
                  <a:pt x="98" y="292"/>
                </a:lnTo>
                <a:lnTo>
                  <a:pt x="98" y="284"/>
                </a:lnTo>
                <a:lnTo>
                  <a:pt x="98" y="276"/>
                </a:lnTo>
                <a:lnTo>
                  <a:pt x="98" y="270"/>
                </a:lnTo>
                <a:lnTo>
                  <a:pt x="98" y="265"/>
                </a:lnTo>
                <a:lnTo>
                  <a:pt x="98" y="263"/>
                </a:lnTo>
                <a:lnTo>
                  <a:pt x="98" y="264"/>
                </a:lnTo>
                <a:lnTo>
                  <a:pt x="98" y="269"/>
                </a:lnTo>
                <a:lnTo>
                  <a:pt x="98" y="278"/>
                </a:lnTo>
                <a:lnTo>
                  <a:pt x="98" y="292"/>
                </a:lnTo>
                <a:lnTo>
                  <a:pt x="98" y="312"/>
                </a:lnTo>
                <a:lnTo>
                  <a:pt x="98" y="339"/>
                </a:lnTo>
                <a:lnTo>
                  <a:pt x="98" y="371"/>
                </a:lnTo>
                <a:lnTo>
                  <a:pt x="98" y="411"/>
                </a:lnTo>
                <a:lnTo>
                  <a:pt x="97" y="460"/>
                </a:lnTo>
                <a:lnTo>
                  <a:pt x="97" y="518"/>
                </a:lnTo>
                <a:lnTo>
                  <a:pt x="97" y="584"/>
                </a:lnTo>
                <a:lnTo>
                  <a:pt x="93" y="581"/>
                </a:lnTo>
                <a:lnTo>
                  <a:pt x="88" y="578"/>
                </a:lnTo>
                <a:lnTo>
                  <a:pt x="83" y="576"/>
                </a:lnTo>
                <a:lnTo>
                  <a:pt x="77" y="573"/>
                </a:lnTo>
                <a:lnTo>
                  <a:pt x="71" y="572"/>
                </a:lnTo>
                <a:lnTo>
                  <a:pt x="65" y="571"/>
                </a:lnTo>
                <a:lnTo>
                  <a:pt x="58" y="570"/>
                </a:lnTo>
                <a:lnTo>
                  <a:pt x="53" y="569"/>
                </a:lnTo>
                <a:lnTo>
                  <a:pt x="45" y="569"/>
                </a:lnTo>
                <a:lnTo>
                  <a:pt x="39" y="569"/>
                </a:lnTo>
                <a:lnTo>
                  <a:pt x="32" y="570"/>
                </a:lnTo>
                <a:lnTo>
                  <a:pt x="26" y="572"/>
                </a:lnTo>
                <a:lnTo>
                  <a:pt x="20" y="574"/>
                </a:lnTo>
                <a:lnTo>
                  <a:pt x="12" y="576"/>
                </a:lnTo>
                <a:lnTo>
                  <a:pt x="7" y="580"/>
                </a:lnTo>
                <a:lnTo>
                  <a:pt x="0" y="583"/>
                </a:ln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38560" y="1506600"/>
            <a:ext cx="166680" cy="938160"/>
          </a:xfrm>
          <a:custGeom>
            <a:avLst/>
            <a:gdLst/>
            <a:ahLst/>
            <a:rect l="l" t="t" r="r" b="b"/>
            <a:pathLst>
              <a:path w="105" h="591">
                <a:moveTo>
                  <a:pt x="0" y="589"/>
                </a:moveTo>
                <a:lnTo>
                  <a:pt x="2" y="0"/>
                </a:lnTo>
                <a:lnTo>
                  <a:pt x="104" y="1"/>
                </a:lnTo>
                <a:lnTo>
                  <a:pt x="104" y="69"/>
                </a:lnTo>
                <a:lnTo>
                  <a:pt x="104" y="126"/>
                </a:lnTo>
                <a:lnTo>
                  <a:pt x="104" y="175"/>
                </a:lnTo>
                <a:lnTo>
                  <a:pt x="104" y="216"/>
                </a:lnTo>
                <a:lnTo>
                  <a:pt x="104" y="250"/>
                </a:lnTo>
                <a:lnTo>
                  <a:pt x="104" y="276"/>
                </a:lnTo>
                <a:lnTo>
                  <a:pt x="103" y="296"/>
                </a:lnTo>
                <a:lnTo>
                  <a:pt x="103" y="310"/>
                </a:lnTo>
                <a:lnTo>
                  <a:pt x="103" y="319"/>
                </a:lnTo>
                <a:lnTo>
                  <a:pt x="103" y="324"/>
                </a:lnTo>
                <a:lnTo>
                  <a:pt x="103" y="325"/>
                </a:lnTo>
                <a:lnTo>
                  <a:pt x="103" y="323"/>
                </a:lnTo>
                <a:lnTo>
                  <a:pt x="103" y="319"/>
                </a:lnTo>
                <a:lnTo>
                  <a:pt x="103" y="312"/>
                </a:lnTo>
                <a:lnTo>
                  <a:pt x="104" y="304"/>
                </a:lnTo>
                <a:lnTo>
                  <a:pt x="104" y="295"/>
                </a:lnTo>
                <a:lnTo>
                  <a:pt x="104" y="287"/>
                </a:lnTo>
                <a:lnTo>
                  <a:pt x="104" y="279"/>
                </a:lnTo>
                <a:lnTo>
                  <a:pt x="104" y="273"/>
                </a:lnTo>
                <a:lnTo>
                  <a:pt x="104" y="268"/>
                </a:lnTo>
                <a:lnTo>
                  <a:pt x="104" y="266"/>
                </a:lnTo>
                <a:lnTo>
                  <a:pt x="104" y="267"/>
                </a:lnTo>
                <a:lnTo>
                  <a:pt x="104" y="272"/>
                </a:lnTo>
                <a:lnTo>
                  <a:pt x="104" y="281"/>
                </a:lnTo>
                <a:lnTo>
                  <a:pt x="104" y="295"/>
                </a:lnTo>
                <a:lnTo>
                  <a:pt x="104" y="315"/>
                </a:lnTo>
                <a:lnTo>
                  <a:pt x="104" y="342"/>
                </a:lnTo>
                <a:lnTo>
                  <a:pt x="104" y="375"/>
                </a:lnTo>
                <a:lnTo>
                  <a:pt x="104" y="415"/>
                </a:lnTo>
                <a:lnTo>
                  <a:pt x="103" y="465"/>
                </a:lnTo>
                <a:lnTo>
                  <a:pt x="103" y="523"/>
                </a:lnTo>
                <a:lnTo>
                  <a:pt x="103" y="590"/>
                </a:lnTo>
                <a:lnTo>
                  <a:pt x="99" y="587"/>
                </a:lnTo>
                <a:lnTo>
                  <a:pt x="93" y="584"/>
                </a:lnTo>
                <a:lnTo>
                  <a:pt x="88" y="582"/>
                </a:lnTo>
                <a:lnTo>
                  <a:pt x="82" y="579"/>
                </a:lnTo>
                <a:lnTo>
                  <a:pt x="75" y="578"/>
                </a:lnTo>
                <a:lnTo>
                  <a:pt x="69" y="577"/>
                </a:lnTo>
                <a:lnTo>
                  <a:pt x="62" y="576"/>
                </a:lnTo>
                <a:lnTo>
                  <a:pt x="56" y="575"/>
                </a:lnTo>
                <a:lnTo>
                  <a:pt x="48" y="575"/>
                </a:lnTo>
                <a:lnTo>
                  <a:pt x="41" y="575"/>
                </a:lnTo>
                <a:lnTo>
                  <a:pt x="34" y="576"/>
                </a:lnTo>
                <a:lnTo>
                  <a:pt x="28" y="578"/>
                </a:lnTo>
                <a:lnTo>
                  <a:pt x="21" y="580"/>
                </a:lnTo>
                <a:lnTo>
                  <a:pt x="13" y="582"/>
                </a:lnTo>
                <a:lnTo>
                  <a:pt x="7" y="586"/>
                </a:lnTo>
                <a:lnTo>
                  <a:pt x="0" y="589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4280" y="1712880"/>
            <a:ext cx="1247760" cy="2833560"/>
          </a:xfrm>
          <a:custGeom>
            <a:avLst/>
            <a:gdLst/>
            <a:ahLst/>
            <a:rect l="l" t="t" r="r" b="b"/>
            <a:pathLst>
              <a:path w="786" h="1785">
                <a:moveTo>
                  <a:pt x="682" y="1784"/>
                </a:moveTo>
                <a:lnTo>
                  <a:pt x="681" y="550"/>
                </a:lnTo>
                <a:lnTo>
                  <a:pt x="681" y="548"/>
                </a:lnTo>
                <a:lnTo>
                  <a:pt x="681" y="545"/>
                </a:lnTo>
                <a:lnTo>
                  <a:pt x="681" y="541"/>
                </a:lnTo>
                <a:lnTo>
                  <a:pt x="681" y="536"/>
                </a:lnTo>
                <a:lnTo>
                  <a:pt x="681" y="531"/>
                </a:lnTo>
                <a:lnTo>
                  <a:pt x="681" y="525"/>
                </a:lnTo>
                <a:lnTo>
                  <a:pt x="682" y="518"/>
                </a:lnTo>
                <a:lnTo>
                  <a:pt x="682" y="512"/>
                </a:lnTo>
                <a:lnTo>
                  <a:pt x="682" y="505"/>
                </a:lnTo>
                <a:lnTo>
                  <a:pt x="682" y="498"/>
                </a:lnTo>
                <a:lnTo>
                  <a:pt x="682" y="492"/>
                </a:lnTo>
                <a:lnTo>
                  <a:pt x="682" y="486"/>
                </a:lnTo>
                <a:lnTo>
                  <a:pt x="682" y="481"/>
                </a:lnTo>
                <a:lnTo>
                  <a:pt x="682" y="475"/>
                </a:lnTo>
                <a:lnTo>
                  <a:pt x="682" y="471"/>
                </a:lnTo>
                <a:lnTo>
                  <a:pt x="678" y="426"/>
                </a:lnTo>
                <a:lnTo>
                  <a:pt x="672" y="383"/>
                </a:lnTo>
                <a:lnTo>
                  <a:pt x="663" y="343"/>
                </a:lnTo>
                <a:lnTo>
                  <a:pt x="652" y="306"/>
                </a:lnTo>
                <a:lnTo>
                  <a:pt x="638" y="272"/>
                </a:lnTo>
                <a:lnTo>
                  <a:pt x="622" y="241"/>
                </a:lnTo>
                <a:lnTo>
                  <a:pt x="605" y="213"/>
                </a:lnTo>
                <a:lnTo>
                  <a:pt x="587" y="189"/>
                </a:lnTo>
                <a:lnTo>
                  <a:pt x="566" y="167"/>
                </a:lnTo>
                <a:lnTo>
                  <a:pt x="544" y="149"/>
                </a:lnTo>
                <a:lnTo>
                  <a:pt x="521" y="133"/>
                </a:lnTo>
                <a:lnTo>
                  <a:pt x="497" y="120"/>
                </a:lnTo>
                <a:lnTo>
                  <a:pt x="473" y="111"/>
                </a:lnTo>
                <a:lnTo>
                  <a:pt x="448" y="104"/>
                </a:lnTo>
                <a:lnTo>
                  <a:pt x="423" y="100"/>
                </a:lnTo>
                <a:lnTo>
                  <a:pt x="397" y="99"/>
                </a:lnTo>
                <a:lnTo>
                  <a:pt x="372" y="101"/>
                </a:lnTo>
                <a:lnTo>
                  <a:pt x="347" y="106"/>
                </a:lnTo>
                <a:lnTo>
                  <a:pt x="323" y="114"/>
                </a:lnTo>
                <a:lnTo>
                  <a:pt x="298" y="124"/>
                </a:lnTo>
                <a:lnTo>
                  <a:pt x="275" y="138"/>
                </a:lnTo>
                <a:lnTo>
                  <a:pt x="253" y="154"/>
                </a:lnTo>
                <a:lnTo>
                  <a:pt x="231" y="173"/>
                </a:lnTo>
                <a:lnTo>
                  <a:pt x="212" y="195"/>
                </a:lnTo>
                <a:lnTo>
                  <a:pt x="194" y="220"/>
                </a:lnTo>
                <a:lnTo>
                  <a:pt x="178" y="248"/>
                </a:lnTo>
                <a:lnTo>
                  <a:pt x="164" y="278"/>
                </a:lnTo>
                <a:lnTo>
                  <a:pt x="151" y="311"/>
                </a:lnTo>
                <a:lnTo>
                  <a:pt x="141" y="347"/>
                </a:lnTo>
                <a:lnTo>
                  <a:pt x="134" y="386"/>
                </a:lnTo>
                <a:lnTo>
                  <a:pt x="129" y="428"/>
                </a:lnTo>
                <a:lnTo>
                  <a:pt x="127" y="471"/>
                </a:lnTo>
                <a:lnTo>
                  <a:pt x="127" y="492"/>
                </a:lnTo>
                <a:lnTo>
                  <a:pt x="127" y="513"/>
                </a:lnTo>
                <a:lnTo>
                  <a:pt x="127" y="534"/>
                </a:lnTo>
                <a:lnTo>
                  <a:pt x="127" y="555"/>
                </a:lnTo>
                <a:lnTo>
                  <a:pt x="127" y="576"/>
                </a:lnTo>
                <a:lnTo>
                  <a:pt x="127" y="597"/>
                </a:lnTo>
                <a:lnTo>
                  <a:pt x="127" y="618"/>
                </a:lnTo>
                <a:lnTo>
                  <a:pt x="127" y="639"/>
                </a:lnTo>
                <a:lnTo>
                  <a:pt x="127" y="660"/>
                </a:lnTo>
                <a:lnTo>
                  <a:pt x="127" y="681"/>
                </a:lnTo>
                <a:lnTo>
                  <a:pt x="127" y="702"/>
                </a:lnTo>
                <a:lnTo>
                  <a:pt x="127" y="723"/>
                </a:lnTo>
                <a:lnTo>
                  <a:pt x="127" y="743"/>
                </a:lnTo>
                <a:lnTo>
                  <a:pt x="127" y="764"/>
                </a:lnTo>
                <a:lnTo>
                  <a:pt x="127" y="785"/>
                </a:lnTo>
                <a:lnTo>
                  <a:pt x="127" y="806"/>
                </a:lnTo>
                <a:lnTo>
                  <a:pt x="127" y="827"/>
                </a:lnTo>
                <a:lnTo>
                  <a:pt x="127" y="848"/>
                </a:lnTo>
                <a:lnTo>
                  <a:pt x="127" y="869"/>
                </a:lnTo>
                <a:lnTo>
                  <a:pt x="127" y="890"/>
                </a:lnTo>
                <a:lnTo>
                  <a:pt x="127" y="911"/>
                </a:lnTo>
                <a:lnTo>
                  <a:pt x="127" y="932"/>
                </a:lnTo>
                <a:lnTo>
                  <a:pt x="127" y="953"/>
                </a:lnTo>
                <a:lnTo>
                  <a:pt x="127" y="974"/>
                </a:lnTo>
                <a:lnTo>
                  <a:pt x="127" y="995"/>
                </a:lnTo>
                <a:lnTo>
                  <a:pt x="127" y="1016"/>
                </a:lnTo>
                <a:lnTo>
                  <a:pt x="127" y="1037"/>
                </a:lnTo>
                <a:lnTo>
                  <a:pt x="127" y="1057"/>
                </a:lnTo>
                <a:lnTo>
                  <a:pt x="127" y="1078"/>
                </a:lnTo>
                <a:lnTo>
                  <a:pt x="127" y="1099"/>
                </a:lnTo>
                <a:lnTo>
                  <a:pt x="127" y="1120"/>
                </a:lnTo>
                <a:lnTo>
                  <a:pt x="127" y="1141"/>
                </a:lnTo>
                <a:lnTo>
                  <a:pt x="127" y="1536"/>
                </a:lnTo>
                <a:lnTo>
                  <a:pt x="128" y="1544"/>
                </a:lnTo>
                <a:lnTo>
                  <a:pt x="129" y="1551"/>
                </a:lnTo>
                <a:lnTo>
                  <a:pt x="130" y="1558"/>
                </a:lnTo>
                <a:lnTo>
                  <a:pt x="131" y="1564"/>
                </a:lnTo>
                <a:lnTo>
                  <a:pt x="132" y="1569"/>
                </a:lnTo>
                <a:lnTo>
                  <a:pt x="132" y="1574"/>
                </a:lnTo>
                <a:lnTo>
                  <a:pt x="134" y="1579"/>
                </a:lnTo>
                <a:lnTo>
                  <a:pt x="135" y="1583"/>
                </a:lnTo>
                <a:lnTo>
                  <a:pt x="136" y="1587"/>
                </a:lnTo>
                <a:lnTo>
                  <a:pt x="138" y="1591"/>
                </a:lnTo>
                <a:lnTo>
                  <a:pt x="139" y="1595"/>
                </a:lnTo>
                <a:lnTo>
                  <a:pt x="141" y="1599"/>
                </a:lnTo>
                <a:lnTo>
                  <a:pt x="142" y="1603"/>
                </a:lnTo>
                <a:lnTo>
                  <a:pt x="145" y="1607"/>
                </a:lnTo>
                <a:lnTo>
                  <a:pt x="147" y="1611"/>
                </a:lnTo>
                <a:lnTo>
                  <a:pt x="149" y="1616"/>
                </a:lnTo>
                <a:lnTo>
                  <a:pt x="152" y="1620"/>
                </a:lnTo>
                <a:lnTo>
                  <a:pt x="154" y="1624"/>
                </a:lnTo>
                <a:lnTo>
                  <a:pt x="155" y="1627"/>
                </a:lnTo>
                <a:lnTo>
                  <a:pt x="156" y="1631"/>
                </a:lnTo>
                <a:lnTo>
                  <a:pt x="157" y="1634"/>
                </a:lnTo>
                <a:lnTo>
                  <a:pt x="156" y="1636"/>
                </a:lnTo>
                <a:lnTo>
                  <a:pt x="154" y="1639"/>
                </a:lnTo>
                <a:lnTo>
                  <a:pt x="152" y="1641"/>
                </a:lnTo>
                <a:lnTo>
                  <a:pt x="148" y="1643"/>
                </a:lnTo>
                <a:lnTo>
                  <a:pt x="142" y="1645"/>
                </a:lnTo>
                <a:lnTo>
                  <a:pt x="136" y="1647"/>
                </a:lnTo>
                <a:lnTo>
                  <a:pt x="128" y="1648"/>
                </a:lnTo>
                <a:lnTo>
                  <a:pt x="118" y="1649"/>
                </a:lnTo>
                <a:lnTo>
                  <a:pt x="106" y="1650"/>
                </a:lnTo>
                <a:lnTo>
                  <a:pt x="92" y="1651"/>
                </a:lnTo>
                <a:lnTo>
                  <a:pt x="76" y="1651"/>
                </a:lnTo>
                <a:lnTo>
                  <a:pt x="62" y="1651"/>
                </a:lnTo>
                <a:lnTo>
                  <a:pt x="48" y="1651"/>
                </a:lnTo>
                <a:lnTo>
                  <a:pt x="36" y="1651"/>
                </a:lnTo>
                <a:lnTo>
                  <a:pt x="27" y="1650"/>
                </a:lnTo>
                <a:lnTo>
                  <a:pt x="18" y="1649"/>
                </a:lnTo>
                <a:lnTo>
                  <a:pt x="12" y="1647"/>
                </a:lnTo>
                <a:lnTo>
                  <a:pt x="7" y="1646"/>
                </a:lnTo>
                <a:lnTo>
                  <a:pt x="4" y="1643"/>
                </a:lnTo>
                <a:lnTo>
                  <a:pt x="1" y="1642"/>
                </a:lnTo>
                <a:lnTo>
                  <a:pt x="0" y="1639"/>
                </a:lnTo>
                <a:lnTo>
                  <a:pt x="0" y="1636"/>
                </a:lnTo>
                <a:lnTo>
                  <a:pt x="1" y="1634"/>
                </a:lnTo>
                <a:lnTo>
                  <a:pt x="2" y="1630"/>
                </a:lnTo>
                <a:lnTo>
                  <a:pt x="4" y="1627"/>
                </a:lnTo>
                <a:lnTo>
                  <a:pt x="6" y="1623"/>
                </a:lnTo>
                <a:lnTo>
                  <a:pt x="9" y="1618"/>
                </a:lnTo>
                <a:lnTo>
                  <a:pt x="11" y="1614"/>
                </a:lnTo>
                <a:lnTo>
                  <a:pt x="13" y="1609"/>
                </a:lnTo>
                <a:lnTo>
                  <a:pt x="16" y="1606"/>
                </a:lnTo>
                <a:lnTo>
                  <a:pt x="18" y="1601"/>
                </a:lnTo>
                <a:lnTo>
                  <a:pt x="19" y="1598"/>
                </a:lnTo>
                <a:lnTo>
                  <a:pt x="20" y="1594"/>
                </a:lnTo>
                <a:lnTo>
                  <a:pt x="22" y="1590"/>
                </a:lnTo>
                <a:lnTo>
                  <a:pt x="23" y="1586"/>
                </a:lnTo>
                <a:lnTo>
                  <a:pt x="24" y="1582"/>
                </a:lnTo>
                <a:lnTo>
                  <a:pt x="26" y="1577"/>
                </a:lnTo>
                <a:lnTo>
                  <a:pt x="27" y="1572"/>
                </a:lnTo>
                <a:lnTo>
                  <a:pt x="27" y="1567"/>
                </a:lnTo>
                <a:lnTo>
                  <a:pt x="28" y="1561"/>
                </a:lnTo>
                <a:lnTo>
                  <a:pt x="29" y="1554"/>
                </a:lnTo>
                <a:lnTo>
                  <a:pt x="30" y="1547"/>
                </a:lnTo>
                <a:lnTo>
                  <a:pt x="31" y="1539"/>
                </a:lnTo>
                <a:lnTo>
                  <a:pt x="31" y="1144"/>
                </a:lnTo>
                <a:lnTo>
                  <a:pt x="31" y="1139"/>
                </a:lnTo>
                <a:lnTo>
                  <a:pt x="31" y="1130"/>
                </a:lnTo>
                <a:lnTo>
                  <a:pt x="31" y="1119"/>
                </a:lnTo>
                <a:lnTo>
                  <a:pt x="31" y="1105"/>
                </a:lnTo>
                <a:lnTo>
                  <a:pt x="31" y="1089"/>
                </a:lnTo>
                <a:lnTo>
                  <a:pt x="31" y="1071"/>
                </a:lnTo>
                <a:lnTo>
                  <a:pt x="30" y="1050"/>
                </a:lnTo>
                <a:lnTo>
                  <a:pt x="30" y="1029"/>
                </a:lnTo>
                <a:lnTo>
                  <a:pt x="30" y="1006"/>
                </a:lnTo>
                <a:lnTo>
                  <a:pt x="30" y="980"/>
                </a:lnTo>
                <a:lnTo>
                  <a:pt x="30" y="954"/>
                </a:lnTo>
                <a:lnTo>
                  <a:pt x="30" y="927"/>
                </a:lnTo>
                <a:lnTo>
                  <a:pt x="30" y="898"/>
                </a:lnTo>
                <a:lnTo>
                  <a:pt x="30" y="869"/>
                </a:lnTo>
                <a:lnTo>
                  <a:pt x="30" y="841"/>
                </a:lnTo>
                <a:lnTo>
                  <a:pt x="30" y="811"/>
                </a:lnTo>
                <a:lnTo>
                  <a:pt x="30" y="782"/>
                </a:lnTo>
                <a:lnTo>
                  <a:pt x="30" y="752"/>
                </a:lnTo>
                <a:lnTo>
                  <a:pt x="30" y="724"/>
                </a:lnTo>
                <a:lnTo>
                  <a:pt x="30" y="697"/>
                </a:lnTo>
                <a:lnTo>
                  <a:pt x="30" y="669"/>
                </a:lnTo>
                <a:lnTo>
                  <a:pt x="30" y="643"/>
                </a:lnTo>
                <a:lnTo>
                  <a:pt x="30" y="618"/>
                </a:lnTo>
                <a:lnTo>
                  <a:pt x="30" y="593"/>
                </a:lnTo>
                <a:lnTo>
                  <a:pt x="30" y="571"/>
                </a:lnTo>
                <a:lnTo>
                  <a:pt x="30" y="551"/>
                </a:lnTo>
                <a:lnTo>
                  <a:pt x="30" y="533"/>
                </a:lnTo>
                <a:lnTo>
                  <a:pt x="30" y="516"/>
                </a:lnTo>
                <a:lnTo>
                  <a:pt x="30" y="503"/>
                </a:lnTo>
                <a:lnTo>
                  <a:pt x="30" y="491"/>
                </a:lnTo>
                <a:lnTo>
                  <a:pt x="30" y="483"/>
                </a:lnTo>
                <a:lnTo>
                  <a:pt x="30" y="478"/>
                </a:lnTo>
                <a:lnTo>
                  <a:pt x="33" y="422"/>
                </a:lnTo>
                <a:lnTo>
                  <a:pt x="40" y="368"/>
                </a:lnTo>
                <a:lnTo>
                  <a:pt x="50" y="318"/>
                </a:lnTo>
                <a:lnTo>
                  <a:pt x="64" y="272"/>
                </a:lnTo>
                <a:lnTo>
                  <a:pt x="81" y="229"/>
                </a:lnTo>
                <a:lnTo>
                  <a:pt x="101" y="190"/>
                </a:lnTo>
                <a:lnTo>
                  <a:pt x="124" y="154"/>
                </a:lnTo>
                <a:lnTo>
                  <a:pt x="150" y="123"/>
                </a:lnTo>
                <a:lnTo>
                  <a:pt x="178" y="95"/>
                </a:lnTo>
                <a:lnTo>
                  <a:pt x="207" y="70"/>
                </a:lnTo>
                <a:lnTo>
                  <a:pt x="238" y="49"/>
                </a:lnTo>
                <a:lnTo>
                  <a:pt x="271" y="32"/>
                </a:lnTo>
                <a:lnTo>
                  <a:pt x="305" y="18"/>
                </a:lnTo>
                <a:lnTo>
                  <a:pt x="339" y="8"/>
                </a:lnTo>
                <a:lnTo>
                  <a:pt x="374" y="2"/>
                </a:lnTo>
                <a:lnTo>
                  <a:pt x="409" y="0"/>
                </a:lnTo>
                <a:lnTo>
                  <a:pt x="445" y="0"/>
                </a:lnTo>
                <a:lnTo>
                  <a:pt x="479" y="5"/>
                </a:lnTo>
                <a:lnTo>
                  <a:pt x="514" y="14"/>
                </a:lnTo>
                <a:lnTo>
                  <a:pt x="548" y="26"/>
                </a:lnTo>
                <a:lnTo>
                  <a:pt x="580" y="42"/>
                </a:lnTo>
                <a:lnTo>
                  <a:pt x="611" y="62"/>
                </a:lnTo>
                <a:lnTo>
                  <a:pt x="640" y="86"/>
                </a:lnTo>
                <a:lnTo>
                  <a:pt x="668" y="112"/>
                </a:lnTo>
                <a:lnTo>
                  <a:pt x="693" y="144"/>
                </a:lnTo>
                <a:lnTo>
                  <a:pt x="716" y="177"/>
                </a:lnTo>
                <a:lnTo>
                  <a:pt x="735" y="216"/>
                </a:lnTo>
                <a:lnTo>
                  <a:pt x="753" y="258"/>
                </a:lnTo>
                <a:lnTo>
                  <a:pt x="766" y="304"/>
                </a:lnTo>
                <a:lnTo>
                  <a:pt x="777" y="354"/>
                </a:lnTo>
                <a:lnTo>
                  <a:pt x="783" y="408"/>
                </a:lnTo>
                <a:lnTo>
                  <a:pt x="785" y="464"/>
                </a:lnTo>
                <a:lnTo>
                  <a:pt x="785" y="475"/>
                </a:lnTo>
                <a:lnTo>
                  <a:pt x="785" y="491"/>
                </a:lnTo>
                <a:lnTo>
                  <a:pt x="785" y="513"/>
                </a:lnTo>
                <a:lnTo>
                  <a:pt x="785" y="539"/>
                </a:lnTo>
                <a:lnTo>
                  <a:pt x="785" y="570"/>
                </a:lnTo>
                <a:lnTo>
                  <a:pt x="785" y="606"/>
                </a:lnTo>
                <a:lnTo>
                  <a:pt x="785" y="645"/>
                </a:lnTo>
                <a:lnTo>
                  <a:pt x="785" y="688"/>
                </a:lnTo>
                <a:lnTo>
                  <a:pt x="785" y="734"/>
                </a:lnTo>
                <a:lnTo>
                  <a:pt x="785" y="782"/>
                </a:lnTo>
                <a:lnTo>
                  <a:pt x="785" y="834"/>
                </a:lnTo>
                <a:lnTo>
                  <a:pt x="785" y="886"/>
                </a:lnTo>
                <a:lnTo>
                  <a:pt x="785" y="941"/>
                </a:lnTo>
                <a:lnTo>
                  <a:pt x="785" y="998"/>
                </a:lnTo>
                <a:lnTo>
                  <a:pt x="785" y="1053"/>
                </a:lnTo>
                <a:lnTo>
                  <a:pt x="785" y="1110"/>
                </a:lnTo>
                <a:lnTo>
                  <a:pt x="785" y="1168"/>
                </a:lnTo>
                <a:lnTo>
                  <a:pt x="785" y="1225"/>
                </a:lnTo>
                <a:lnTo>
                  <a:pt x="785" y="1282"/>
                </a:lnTo>
                <a:lnTo>
                  <a:pt x="785" y="1337"/>
                </a:lnTo>
                <a:lnTo>
                  <a:pt x="785" y="1391"/>
                </a:lnTo>
                <a:lnTo>
                  <a:pt x="785" y="1443"/>
                </a:lnTo>
                <a:lnTo>
                  <a:pt x="785" y="1493"/>
                </a:lnTo>
                <a:lnTo>
                  <a:pt x="785" y="1541"/>
                </a:lnTo>
                <a:lnTo>
                  <a:pt x="785" y="1585"/>
                </a:lnTo>
                <a:lnTo>
                  <a:pt x="785" y="1627"/>
                </a:lnTo>
                <a:lnTo>
                  <a:pt x="785" y="1664"/>
                </a:lnTo>
                <a:lnTo>
                  <a:pt x="785" y="1697"/>
                </a:lnTo>
                <a:lnTo>
                  <a:pt x="785" y="1727"/>
                </a:lnTo>
                <a:lnTo>
                  <a:pt x="785" y="1751"/>
                </a:lnTo>
                <a:lnTo>
                  <a:pt x="785" y="1770"/>
                </a:lnTo>
                <a:lnTo>
                  <a:pt x="785" y="1784"/>
                </a:lnTo>
                <a:lnTo>
                  <a:pt x="778" y="1781"/>
                </a:lnTo>
                <a:lnTo>
                  <a:pt x="771" y="1780"/>
                </a:lnTo>
                <a:lnTo>
                  <a:pt x="764" y="1778"/>
                </a:lnTo>
                <a:lnTo>
                  <a:pt x="758" y="1776"/>
                </a:lnTo>
                <a:lnTo>
                  <a:pt x="752" y="1775"/>
                </a:lnTo>
                <a:lnTo>
                  <a:pt x="746" y="1774"/>
                </a:lnTo>
                <a:lnTo>
                  <a:pt x="741" y="1774"/>
                </a:lnTo>
                <a:lnTo>
                  <a:pt x="735" y="1773"/>
                </a:lnTo>
                <a:lnTo>
                  <a:pt x="729" y="1773"/>
                </a:lnTo>
                <a:lnTo>
                  <a:pt x="723" y="1774"/>
                </a:lnTo>
                <a:lnTo>
                  <a:pt x="718" y="1775"/>
                </a:lnTo>
                <a:lnTo>
                  <a:pt x="711" y="1776"/>
                </a:lnTo>
                <a:lnTo>
                  <a:pt x="704" y="1777"/>
                </a:lnTo>
                <a:lnTo>
                  <a:pt x="697" y="1779"/>
                </a:lnTo>
                <a:lnTo>
                  <a:pt x="690" y="1781"/>
                </a:lnTo>
                <a:lnTo>
                  <a:pt x="682" y="1784"/>
                </a:ln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4280" y="1712880"/>
            <a:ext cx="1257480" cy="2843280"/>
          </a:xfrm>
          <a:custGeom>
            <a:avLst/>
            <a:gdLst/>
            <a:ahLst/>
            <a:rect l="l" t="t" r="r" b="b"/>
            <a:pathLst>
              <a:path w="792" h="1791">
                <a:moveTo>
                  <a:pt x="687" y="1790"/>
                </a:moveTo>
                <a:lnTo>
                  <a:pt x="686" y="552"/>
                </a:lnTo>
                <a:lnTo>
                  <a:pt x="686" y="550"/>
                </a:lnTo>
                <a:lnTo>
                  <a:pt x="686" y="547"/>
                </a:lnTo>
                <a:lnTo>
                  <a:pt x="686" y="543"/>
                </a:lnTo>
                <a:lnTo>
                  <a:pt x="686" y="538"/>
                </a:lnTo>
                <a:lnTo>
                  <a:pt x="686" y="533"/>
                </a:lnTo>
                <a:lnTo>
                  <a:pt x="686" y="527"/>
                </a:lnTo>
                <a:lnTo>
                  <a:pt x="687" y="520"/>
                </a:lnTo>
                <a:lnTo>
                  <a:pt x="687" y="514"/>
                </a:lnTo>
                <a:lnTo>
                  <a:pt x="687" y="507"/>
                </a:lnTo>
                <a:lnTo>
                  <a:pt x="687" y="500"/>
                </a:lnTo>
                <a:lnTo>
                  <a:pt x="687" y="494"/>
                </a:lnTo>
                <a:lnTo>
                  <a:pt x="687" y="488"/>
                </a:lnTo>
                <a:lnTo>
                  <a:pt x="687" y="483"/>
                </a:lnTo>
                <a:lnTo>
                  <a:pt x="687" y="477"/>
                </a:lnTo>
                <a:lnTo>
                  <a:pt x="687" y="473"/>
                </a:lnTo>
                <a:lnTo>
                  <a:pt x="683" y="427"/>
                </a:lnTo>
                <a:lnTo>
                  <a:pt x="677" y="384"/>
                </a:lnTo>
                <a:lnTo>
                  <a:pt x="668" y="344"/>
                </a:lnTo>
                <a:lnTo>
                  <a:pt x="657" y="307"/>
                </a:lnTo>
                <a:lnTo>
                  <a:pt x="643" y="273"/>
                </a:lnTo>
                <a:lnTo>
                  <a:pt x="627" y="242"/>
                </a:lnTo>
                <a:lnTo>
                  <a:pt x="610" y="214"/>
                </a:lnTo>
                <a:lnTo>
                  <a:pt x="591" y="190"/>
                </a:lnTo>
                <a:lnTo>
                  <a:pt x="570" y="168"/>
                </a:lnTo>
                <a:lnTo>
                  <a:pt x="548" y="149"/>
                </a:lnTo>
                <a:lnTo>
                  <a:pt x="525" y="133"/>
                </a:lnTo>
                <a:lnTo>
                  <a:pt x="501" y="120"/>
                </a:lnTo>
                <a:lnTo>
                  <a:pt x="477" y="111"/>
                </a:lnTo>
                <a:lnTo>
                  <a:pt x="451" y="104"/>
                </a:lnTo>
                <a:lnTo>
                  <a:pt x="426" y="100"/>
                </a:lnTo>
                <a:lnTo>
                  <a:pt x="400" y="99"/>
                </a:lnTo>
                <a:lnTo>
                  <a:pt x="375" y="101"/>
                </a:lnTo>
                <a:lnTo>
                  <a:pt x="350" y="106"/>
                </a:lnTo>
                <a:lnTo>
                  <a:pt x="325" y="114"/>
                </a:lnTo>
                <a:lnTo>
                  <a:pt x="300" y="124"/>
                </a:lnTo>
                <a:lnTo>
                  <a:pt x="277" y="138"/>
                </a:lnTo>
                <a:lnTo>
                  <a:pt x="255" y="155"/>
                </a:lnTo>
                <a:lnTo>
                  <a:pt x="233" y="174"/>
                </a:lnTo>
                <a:lnTo>
                  <a:pt x="214" y="196"/>
                </a:lnTo>
                <a:lnTo>
                  <a:pt x="195" y="221"/>
                </a:lnTo>
                <a:lnTo>
                  <a:pt x="179" y="249"/>
                </a:lnTo>
                <a:lnTo>
                  <a:pt x="165" y="279"/>
                </a:lnTo>
                <a:lnTo>
                  <a:pt x="152" y="312"/>
                </a:lnTo>
                <a:lnTo>
                  <a:pt x="142" y="348"/>
                </a:lnTo>
                <a:lnTo>
                  <a:pt x="135" y="387"/>
                </a:lnTo>
                <a:lnTo>
                  <a:pt x="130" y="429"/>
                </a:lnTo>
                <a:lnTo>
                  <a:pt x="128" y="473"/>
                </a:lnTo>
                <a:lnTo>
                  <a:pt x="128" y="494"/>
                </a:lnTo>
                <a:lnTo>
                  <a:pt x="128" y="515"/>
                </a:lnTo>
                <a:lnTo>
                  <a:pt x="128" y="536"/>
                </a:lnTo>
                <a:lnTo>
                  <a:pt x="128" y="557"/>
                </a:lnTo>
                <a:lnTo>
                  <a:pt x="128" y="578"/>
                </a:lnTo>
                <a:lnTo>
                  <a:pt x="128" y="599"/>
                </a:lnTo>
                <a:lnTo>
                  <a:pt x="128" y="620"/>
                </a:lnTo>
                <a:lnTo>
                  <a:pt x="128" y="641"/>
                </a:lnTo>
                <a:lnTo>
                  <a:pt x="128" y="662"/>
                </a:lnTo>
                <a:lnTo>
                  <a:pt x="128" y="683"/>
                </a:lnTo>
                <a:lnTo>
                  <a:pt x="128" y="704"/>
                </a:lnTo>
                <a:lnTo>
                  <a:pt x="128" y="725"/>
                </a:lnTo>
                <a:lnTo>
                  <a:pt x="128" y="746"/>
                </a:lnTo>
                <a:lnTo>
                  <a:pt x="128" y="767"/>
                </a:lnTo>
                <a:lnTo>
                  <a:pt x="128" y="788"/>
                </a:lnTo>
                <a:lnTo>
                  <a:pt x="128" y="809"/>
                </a:lnTo>
                <a:lnTo>
                  <a:pt x="128" y="830"/>
                </a:lnTo>
                <a:lnTo>
                  <a:pt x="128" y="851"/>
                </a:lnTo>
                <a:lnTo>
                  <a:pt x="128" y="872"/>
                </a:lnTo>
                <a:lnTo>
                  <a:pt x="128" y="893"/>
                </a:lnTo>
                <a:lnTo>
                  <a:pt x="128" y="914"/>
                </a:lnTo>
                <a:lnTo>
                  <a:pt x="128" y="935"/>
                </a:lnTo>
                <a:lnTo>
                  <a:pt x="128" y="956"/>
                </a:lnTo>
                <a:lnTo>
                  <a:pt x="128" y="977"/>
                </a:lnTo>
                <a:lnTo>
                  <a:pt x="128" y="998"/>
                </a:lnTo>
                <a:lnTo>
                  <a:pt x="128" y="1019"/>
                </a:lnTo>
                <a:lnTo>
                  <a:pt x="128" y="1040"/>
                </a:lnTo>
                <a:lnTo>
                  <a:pt x="128" y="1061"/>
                </a:lnTo>
                <a:lnTo>
                  <a:pt x="128" y="1082"/>
                </a:lnTo>
                <a:lnTo>
                  <a:pt x="128" y="1103"/>
                </a:lnTo>
                <a:lnTo>
                  <a:pt x="128" y="1124"/>
                </a:lnTo>
                <a:lnTo>
                  <a:pt x="128" y="1145"/>
                </a:lnTo>
                <a:lnTo>
                  <a:pt x="128" y="1541"/>
                </a:lnTo>
                <a:lnTo>
                  <a:pt x="129" y="1549"/>
                </a:lnTo>
                <a:lnTo>
                  <a:pt x="130" y="1556"/>
                </a:lnTo>
                <a:lnTo>
                  <a:pt x="131" y="1563"/>
                </a:lnTo>
                <a:lnTo>
                  <a:pt x="132" y="1569"/>
                </a:lnTo>
                <a:lnTo>
                  <a:pt x="133" y="1574"/>
                </a:lnTo>
                <a:lnTo>
                  <a:pt x="133" y="1579"/>
                </a:lnTo>
                <a:lnTo>
                  <a:pt x="135" y="1584"/>
                </a:lnTo>
                <a:lnTo>
                  <a:pt x="136" y="1588"/>
                </a:lnTo>
                <a:lnTo>
                  <a:pt x="137" y="1592"/>
                </a:lnTo>
                <a:lnTo>
                  <a:pt x="139" y="1596"/>
                </a:lnTo>
                <a:lnTo>
                  <a:pt x="140" y="1600"/>
                </a:lnTo>
                <a:lnTo>
                  <a:pt x="142" y="1604"/>
                </a:lnTo>
                <a:lnTo>
                  <a:pt x="143" y="1608"/>
                </a:lnTo>
                <a:lnTo>
                  <a:pt x="146" y="1612"/>
                </a:lnTo>
                <a:lnTo>
                  <a:pt x="148" y="1616"/>
                </a:lnTo>
                <a:lnTo>
                  <a:pt x="150" y="1621"/>
                </a:lnTo>
                <a:lnTo>
                  <a:pt x="153" y="1625"/>
                </a:lnTo>
                <a:lnTo>
                  <a:pt x="155" y="1629"/>
                </a:lnTo>
                <a:lnTo>
                  <a:pt x="156" y="1632"/>
                </a:lnTo>
                <a:lnTo>
                  <a:pt x="157" y="1636"/>
                </a:lnTo>
                <a:lnTo>
                  <a:pt x="158" y="1639"/>
                </a:lnTo>
                <a:lnTo>
                  <a:pt x="157" y="1642"/>
                </a:lnTo>
                <a:lnTo>
                  <a:pt x="155" y="1645"/>
                </a:lnTo>
                <a:lnTo>
                  <a:pt x="153" y="1647"/>
                </a:lnTo>
                <a:lnTo>
                  <a:pt x="149" y="1649"/>
                </a:lnTo>
                <a:lnTo>
                  <a:pt x="143" y="1651"/>
                </a:lnTo>
                <a:lnTo>
                  <a:pt x="137" y="1653"/>
                </a:lnTo>
                <a:lnTo>
                  <a:pt x="129" y="1654"/>
                </a:lnTo>
                <a:lnTo>
                  <a:pt x="119" y="1655"/>
                </a:lnTo>
                <a:lnTo>
                  <a:pt x="107" y="1656"/>
                </a:lnTo>
                <a:lnTo>
                  <a:pt x="93" y="1657"/>
                </a:lnTo>
                <a:lnTo>
                  <a:pt x="77" y="1657"/>
                </a:lnTo>
                <a:lnTo>
                  <a:pt x="62" y="1657"/>
                </a:lnTo>
                <a:lnTo>
                  <a:pt x="48" y="1657"/>
                </a:lnTo>
                <a:lnTo>
                  <a:pt x="36" y="1657"/>
                </a:lnTo>
                <a:lnTo>
                  <a:pt x="27" y="1656"/>
                </a:lnTo>
                <a:lnTo>
                  <a:pt x="18" y="1655"/>
                </a:lnTo>
                <a:lnTo>
                  <a:pt x="12" y="1653"/>
                </a:lnTo>
                <a:lnTo>
                  <a:pt x="7" y="1652"/>
                </a:lnTo>
                <a:lnTo>
                  <a:pt x="4" y="1649"/>
                </a:lnTo>
                <a:lnTo>
                  <a:pt x="1" y="1648"/>
                </a:lnTo>
                <a:lnTo>
                  <a:pt x="0" y="1645"/>
                </a:lnTo>
                <a:lnTo>
                  <a:pt x="0" y="1642"/>
                </a:lnTo>
                <a:lnTo>
                  <a:pt x="1" y="1639"/>
                </a:lnTo>
                <a:lnTo>
                  <a:pt x="2" y="1635"/>
                </a:lnTo>
                <a:lnTo>
                  <a:pt x="4" y="1632"/>
                </a:lnTo>
                <a:lnTo>
                  <a:pt x="6" y="1628"/>
                </a:lnTo>
                <a:lnTo>
                  <a:pt x="9" y="1623"/>
                </a:lnTo>
                <a:lnTo>
                  <a:pt x="11" y="1619"/>
                </a:lnTo>
                <a:lnTo>
                  <a:pt x="13" y="1614"/>
                </a:lnTo>
                <a:lnTo>
                  <a:pt x="16" y="1611"/>
                </a:lnTo>
                <a:lnTo>
                  <a:pt x="18" y="1606"/>
                </a:lnTo>
                <a:lnTo>
                  <a:pt x="19" y="1603"/>
                </a:lnTo>
                <a:lnTo>
                  <a:pt x="20" y="1599"/>
                </a:lnTo>
                <a:lnTo>
                  <a:pt x="22" y="1595"/>
                </a:lnTo>
                <a:lnTo>
                  <a:pt x="23" y="1591"/>
                </a:lnTo>
                <a:lnTo>
                  <a:pt x="24" y="1587"/>
                </a:lnTo>
                <a:lnTo>
                  <a:pt x="26" y="1582"/>
                </a:lnTo>
                <a:lnTo>
                  <a:pt x="27" y="1577"/>
                </a:lnTo>
                <a:lnTo>
                  <a:pt x="27" y="1572"/>
                </a:lnTo>
                <a:lnTo>
                  <a:pt x="28" y="1566"/>
                </a:lnTo>
                <a:lnTo>
                  <a:pt x="29" y="1559"/>
                </a:lnTo>
                <a:lnTo>
                  <a:pt x="30" y="1552"/>
                </a:lnTo>
                <a:lnTo>
                  <a:pt x="31" y="1544"/>
                </a:lnTo>
                <a:lnTo>
                  <a:pt x="31" y="1148"/>
                </a:lnTo>
                <a:lnTo>
                  <a:pt x="31" y="1143"/>
                </a:lnTo>
                <a:lnTo>
                  <a:pt x="31" y="1134"/>
                </a:lnTo>
                <a:lnTo>
                  <a:pt x="31" y="1123"/>
                </a:lnTo>
                <a:lnTo>
                  <a:pt x="31" y="1109"/>
                </a:lnTo>
                <a:lnTo>
                  <a:pt x="31" y="1093"/>
                </a:lnTo>
                <a:lnTo>
                  <a:pt x="31" y="1075"/>
                </a:lnTo>
                <a:lnTo>
                  <a:pt x="30" y="1054"/>
                </a:lnTo>
                <a:lnTo>
                  <a:pt x="30" y="1032"/>
                </a:lnTo>
                <a:lnTo>
                  <a:pt x="30" y="1009"/>
                </a:lnTo>
                <a:lnTo>
                  <a:pt x="30" y="983"/>
                </a:lnTo>
                <a:lnTo>
                  <a:pt x="30" y="957"/>
                </a:lnTo>
                <a:lnTo>
                  <a:pt x="30" y="930"/>
                </a:lnTo>
                <a:lnTo>
                  <a:pt x="30" y="901"/>
                </a:lnTo>
                <a:lnTo>
                  <a:pt x="30" y="872"/>
                </a:lnTo>
                <a:lnTo>
                  <a:pt x="30" y="844"/>
                </a:lnTo>
                <a:lnTo>
                  <a:pt x="30" y="814"/>
                </a:lnTo>
                <a:lnTo>
                  <a:pt x="30" y="785"/>
                </a:lnTo>
                <a:lnTo>
                  <a:pt x="30" y="755"/>
                </a:lnTo>
                <a:lnTo>
                  <a:pt x="30" y="726"/>
                </a:lnTo>
                <a:lnTo>
                  <a:pt x="30" y="699"/>
                </a:lnTo>
                <a:lnTo>
                  <a:pt x="30" y="671"/>
                </a:lnTo>
                <a:lnTo>
                  <a:pt x="30" y="645"/>
                </a:lnTo>
                <a:lnTo>
                  <a:pt x="30" y="620"/>
                </a:lnTo>
                <a:lnTo>
                  <a:pt x="30" y="595"/>
                </a:lnTo>
                <a:lnTo>
                  <a:pt x="30" y="573"/>
                </a:lnTo>
                <a:lnTo>
                  <a:pt x="30" y="553"/>
                </a:lnTo>
                <a:lnTo>
                  <a:pt x="30" y="535"/>
                </a:lnTo>
                <a:lnTo>
                  <a:pt x="30" y="518"/>
                </a:lnTo>
                <a:lnTo>
                  <a:pt x="30" y="505"/>
                </a:lnTo>
                <a:lnTo>
                  <a:pt x="30" y="493"/>
                </a:lnTo>
                <a:lnTo>
                  <a:pt x="30" y="485"/>
                </a:lnTo>
                <a:lnTo>
                  <a:pt x="30" y="480"/>
                </a:lnTo>
                <a:lnTo>
                  <a:pt x="33" y="423"/>
                </a:lnTo>
                <a:lnTo>
                  <a:pt x="40" y="369"/>
                </a:lnTo>
                <a:lnTo>
                  <a:pt x="50" y="319"/>
                </a:lnTo>
                <a:lnTo>
                  <a:pt x="64" y="273"/>
                </a:lnTo>
                <a:lnTo>
                  <a:pt x="82" y="230"/>
                </a:lnTo>
                <a:lnTo>
                  <a:pt x="102" y="191"/>
                </a:lnTo>
                <a:lnTo>
                  <a:pt x="125" y="155"/>
                </a:lnTo>
                <a:lnTo>
                  <a:pt x="151" y="123"/>
                </a:lnTo>
                <a:lnTo>
                  <a:pt x="179" y="95"/>
                </a:lnTo>
                <a:lnTo>
                  <a:pt x="209" y="70"/>
                </a:lnTo>
                <a:lnTo>
                  <a:pt x="240" y="49"/>
                </a:lnTo>
                <a:lnTo>
                  <a:pt x="273" y="32"/>
                </a:lnTo>
                <a:lnTo>
                  <a:pt x="307" y="18"/>
                </a:lnTo>
                <a:lnTo>
                  <a:pt x="342" y="8"/>
                </a:lnTo>
                <a:lnTo>
                  <a:pt x="377" y="2"/>
                </a:lnTo>
                <a:lnTo>
                  <a:pt x="412" y="0"/>
                </a:lnTo>
                <a:lnTo>
                  <a:pt x="448" y="0"/>
                </a:lnTo>
                <a:lnTo>
                  <a:pt x="483" y="5"/>
                </a:lnTo>
                <a:lnTo>
                  <a:pt x="518" y="14"/>
                </a:lnTo>
                <a:lnTo>
                  <a:pt x="552" y="26"/>
                </a:lnTo>
                <a:lnTo>
                  <a:pt x="584" y="42"/>
                </a:lnTo>
                <a:lnTo>
                  <a:pt x="616" y="62"/>
                </a:lnTo>
                <a:lnTo>
                  <a:pt x="645" y="86"/>
                </a:lnTo>
                <a:lnTo>
                  <a:pt x="673" y="112"/>
                </a:lnTo>
                <a:lnTo>
                  <a:pt x="698" y="144"/>
                </a:lnTo>
                <a:lnTo>
                  <a:pt x="721" y="178"/>
                </a:lnTo>
                <a:lnTo>
                  <a:pt x="741" y="217"/>
                </a:lnTo>
                <a:lnTo>
                  <a:pt x="759" y="259"/>
                </a:lnTo>
                <a:lnTo>
                  <a:pt x="772" y="305"/>
                </a:lnTo>
                <a:lnTo>
                  <a:pt x="783" y="355"/>
                </a:lnTo>
                <a:lnTo>
                  <a:pt x="789" y="409"/>
                </a:lnTo>
                <a:lnTo>
                  <a:pt x="791" y="466"/>
                </a:lnTo>
                <a:lnTo>
                  <a:pt x="791" y="477"/>
                </a:lnTo>
                <a:lnTo>
                  <a:pt x="791" y="493"/>
                </a:lnTo>
                <a:lnTo>
                  <a:pt x="791" y="515"/>
                </a:lnTo>
                <a:lnTo>
                  <a:pt x="791" y="541"/>
                </a:lnTo>
                <a:lnTo>
                  <a:pt x="791" y="572"/>
                </a:lnTo>
                <a:lnTo>
                  <a:pt x="791" y="608"/>
                </a:lnTo>
                <a:lnTo>
                  <a:pt x="791" y="647"/>
                </a:lnTo>
                <a:lnTo>
                  <a:pt x="791" y="690"/>
                </a:lnTo>
                <a:lnTo>
                  <a:pt x="791" y="736"/>
                </a:lnTo>
                <a:lnTo>
                  <a:pt x="791" y="785"/>
                </a:lnTo>
                <a:lnTo>
                  <a:pt x="791" y="837"/>
                </a:lnTo>
                <a:lnTo>
                  <a:pt x="791" y="889"/>
                </a:lnTo>
                <a:lnTo>
                  <a:pt x="791" y="944"/>
                </a:lnTo>
                <a:lnTo>
                  <a:pt x="791" y="1001"/>
                </a:lnTo>
                <a:lnTo>
                  <a:pt x="791" y="1057"/>
                </a:lnTo>
                <a:lnTo>
                  <a:pt x="791" y="1114"/>
                </a:lnTo>
                <a:lnTo>
                  <a:pt x="791" y="1172"/>
                </a:lnTo>
                <a:lnTo>
                  <a:pt x="791" y="1229"/>
                </a:lnTo>
                <a:lnTo>
                  <a:pt x="791" y="1286"/>
                </a:lnTo>
                <a:lnTo>
                  <a:pt x="791" y="1341"/>
                </a:lnTo>
                <a:lnTo>
                  <a:pt x="791" y="1396"/>
                </a:lnTo>
                <a:lnTo>
                  <a:pt x="791" y="1448"/>
                </a:lnTo>
                <a:lnTo>
                  <a:pt x="791" y="1498"/>
                </a:lnTo>
                <a:lnTo>
                  <a:pt x="791" y="1546"/>
                </a:lnTo>
                <a:lnTo>
                  <a:pt x="791" y="1590"/>
                </a:lnTo>
                <a:lnTo>
                  <a:pt x="791" y="1632"/>
                </a:lnTo>
                <a:lnTo>
                  <a:pt x="791" y="1670"/>
                </a:lnTo>
                <a:lnTo>
                  <a:pt x="791" y="1703"/>
                </a:lnTo>
                <a:lnTo>
                  <a:pt x="791" y="1733"/>
                </a:lnTo>
                <a:lnTo>
                  <a:pt x="791" y="1757"/>
                </a:lnTo>
                <a:lnTo>
                  <a:pt x="791" y="1776"/>
                </a:lnTo>
                <a:lnTo>
                  <a:pt x="791" y="1790"/>
                </a:lnTo>
                <a:lnTo>
                  <a:pt x="784" y="1787"/>
                </a:lnTo>
                <a:lnTo>
                  <a:pt x="777" y="1786"/>
                </a:lnTo>
                <a:lnTo>
                  <a:pt x="770" y="1784"/>
                </a:lnTo>
                <a:lnTo>
                  <a:pt x="764" y="1782"/>
                </a:lnTo>
                <a:lnTo>
                  <a:pt x="758" y="1781"/>
                </a:lnTo>
                <a:lnTo>
                  <a:pt x="752" y="1780"/>
                </a:lnTo>
                <a:lnTo>
                  <a:pt x="747" y="1780"/>
                </a:lnTo>
                <a:lnTo>
                  <a:pt x="741" y="1779"/>
                </a:lnTo>
                <a:lnTo>
                  <a:pt x="735" y="1779"/>
                </a:lnTo>
                <a:lnTo>
                  <a:pt x="729" y="1780"/>
                </a:lnTo>
                <a:lnTo>
                  <a:pt x="723" y="1781"/>
                </a:lnTo>
                <a:lnTo>
                  <a:pt x="716" y="1782"/>
                </a:lnTo>
                <a:lnTo>
                  <a:pt x="709" y="1783"/>
                </a:lnTo>
                <a:lnTo>
                  <a:pt x="702" y="1785"/>
                </a:lnTo>
                <a:lnTo>
                  <a:pt x="695" y="1787"/>
                </a:lnTo>
                <a:lnTo>
                  <a:pt x="687" y="179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7280" y="4229280"/>
            <a:ext cx="1566720" cy="1569960"/>
          </a:xfrm>
          <a:custGeom>
            <a:avLst/>
            <a:gdLst/>
            <a:ahLst/>
            <a:rect l="l" t="t" r="r" b="b"/>
            <a:pathLst>
              <a:path w="987" h="989">
                <a:moveTo>
                  <a:pt x="553" y="3"/>
                </a:moveTo>
                <a:lnTo>
                  <a:pt x="575" y="7"/>
                </a:lnTo>
                <a:lnTo>
                  <a:pt x="597" y="11"/>
                </a:lnTo>
                <a:lnTo>
                  <a:pt x="620" y="16"/>
                </a:lnTo>
                <a:lnTo>
                  <a:pt x="641" y="23"/>
                </a:lnTo>
                <a:lnTo>
                  <a:pt x="663" y="30"/>
                </a:lnTo>
                <a:lnTo>
                  <a:pt x="684" y="38"/>
                </a:lnTo>
                <a:lnTo>
                  <a:pt x="704" y="47"/>
                </a:lnTo>
                <a:lnTo>
                  <a:pt x="724" y="58"/>
                </a:lnTo>
                <a:lnTo>
                  <a:pt x="742" y="69"/>
                </a:lnTo>
                <a:lnTo>
                  <a:pt x="761" y="80"/>
                </a:lnTo>
                <a:lnTo>
                  <a:pt x="780" y="92"/>
                </a:lnTo>
                <a:lnTo>
                  <a:pt x="797" y="105"/>
                </a:lnTo>
                <a:lnTo>
                  <a:pt x="814" y="120"/>
                </a:lnTo>
                <a:lnTo>
                  <a:pt x="831" y="134"/>
                </a:lnTo>
                <a:lnTo>
                  <a:pt x="846" y="150"/>
                </a:lnTo>
                <a:lnTo>
                  <a:pt x="861" y="166"/>
                </a:lnTo>
                <a:lnTo>
                  <a:pt x="876" y="183"/>
                </a:lnTo>
                <a:lnTo>
                  <a:pt x="889" y="200"/>
                </a:lnTo>
                <a:lnTo>
                  <a:pt x="902" y="219"/>
                </a:lnTo>
                <a:lnTo>
                  <a:pt x="913" y="237"/>
                </a:lnTo>
                <a:lnTo>
                  <a:pt x="924" y="256"/>
                </a:lnTo>
                <a:lnTo>
                  <a:pt x="934" y="275"/>
                </a:lnTo>
                <a:lnTo>
                  <a:pt x="944" y="295"/>
                </a:lnTo>
                <a:lnTo>
                  <a:pt x="952" y="316"/>
                </a:lnTo>
                <a:lnTo>
                  <a:pt x="960" y="337"/>
                </a:lnTo>
                <a:lnTo>
                  <a:pt x="967" y="359"/>
                </a:lnTo>
                <a:lnTo>
                  <a:pt x="973" y="380"/>
                </a:lnTo>
                <a:lnTo>
                  <a:pt x="977" y="403"/>
                </a:lnTo>
                <a:lnTo>
                  <a:pt x="981" y="424"/>
                </a:lnTo>
                <a:lnTo>
                  <a:pt x="983" y="448"/>
                </a:lnTo>
                <a:lnTo>
                  <a:pt x="985" y="471"/>
                </a:lnTo>
                <a:lnTo>
                  <a:pt x="986" y="494"/>
                </a:lnTo>
                <a:lnTo>
                  <a:pt x="985" y="519"/>
                </a:lnTo>
                <a:lnTo>
                  <a:pt x="983" y="544"/>
                </a:lnTo>
                <a:lnTo>
                  <a:pt x="980" y="569"/>
                </a:lnTo>
                <a:lnTo>
                  <a:pt x="976" y="593"/>
                </a:lnTo>
                <a:lnTo>
                  <a:pt x="970" y="617"/>
                </a:lnTo>
                <a:lnTo>
                  <a:pt x="964" y="640"/>
                </a:lnTo>
                <a:lnTo>
                  <a:pt x="955" y="663"/>
                </a:lnTo>
                <a:lnTo>
                  <a:pt x="946" y="686"/>
                </a:lnTo>
                <a:lnTo>
                  <a:pt x="937" y="708"/>
                </a:lnTo>
                <a:lnTo>
                  <a:pt x="926" y="730"/>
                </a:lnTo>
                <a:lnTo>
                  <a:pt x="914" y="749"/>
                </a:lnTo>
                <a:lnTo>
                  <a:pt x="902" y="769"/>
                </a:lnTo>
                <a:lnTo>
                  <a:pt x="888" y="789"/>
                </a:lnTo>
                <a:lnTo>
                  <a:pt x="873" y="808"/>
                </a:lnTo>
                <a:lnTo>
                  <a:pt x="858" y="826"/>
                </a:lnTo>
                <a:lnTo>
                  <a:pt x="841" y="843"/>
                </a:lnTo>
                <a:lnTo>
                  <a:pt x="824" y="860"/>
                </a:lnTo>
                <a:lnTo>
                  <a:pt x="806" y="875"/>
                </a:lnTo>
                <a:lnTo>
                  <a:pt x="787" y="890"/>
                </a:lnTo>
                <a:lnTo>
                  <a:pt x="768" y="904"/>
                </a:lnTo>
                <a:lnTo>
                  <a:pt x="748" y="916"/>
                </a:lnTo>
                <a:lnTo>
                  <a:pt x="728" y="928"/>
                </a:lnTo>
                <a:lnTo>
                  <a:pt x="707" y="939"/>
                </a:lnTo>
                <a:lnTo>
                  <a:pt x="684" y="949"/>
                </a:lnTo>
                <a:lnTo>
                  <a:pt x="662" y="958"/>
                </a:lnTo>
                <a:lnTo>
                  <a:pt x="639" y="966"/>
                </a:lnTo>
                <a:lnTo>
                  <a:pt x="615" y="972"/>
                </a:lnTo>
                <a:lnTo>
                  <a:pt x="592" y="978"/>
                </a:lnTo>
                <a:lnTo>
                  <a:pt x="568" y="982"/>
                </a:lnTo>
                <a:lnTo>
                  <a:pt x="544" y="986"/>
                </a:lnTo>
                <a:lnTo>
                  <a:pt x="518" y="988"/>
                </a:lnTo>
                <a:lnTo>
                  <a:pt x="493" y="988"/>
                </a:lnTo>
                <a:lnTo>
                  <a:pt x="467" y="988"/>
                </a:lnTo>
                <a:lnTo>
                  <a:pt x="442" y="986"/>
                </a:lnTo>
                <a:lnTo>
                  <a:pt x="418" y="982"/>
                </a:lnTo>
                <a:lnTo>
                  <a:pt x="394" y="978"/>
                </a:lnTo>
                <a:lnTo>
                  <a:pt x="370" y="972"/>
                </a:lnTo>
                <a:lnTo>
                  <a:pt x="347" y="966"/>
                </a:lnTo>
                <a:lnTo>
                  <a:pt x="324" y="958"/>
                </a:lnTo>
                <a:lnTo>
                  <a:pt x="301" y="949"/>
                </a:lnTo>
                <a:lnTo>
                  <a:pt x="279" y="939"/>
                </a:lnTo>
                <a:lnTo>
                  <a:pt x="258" y="928"/>
                </a:lnTo>
                <a:lnTo>
                  <a:pt x="238" y="916"/>
                </a:lnTo>
                <a:lnTo>
                  <a:pt x="218" y="904"/>
                </a:lnTo>
                <a:lnTo>
                  <a:pt x="199" y="890"/>
                </a:lnTo>
                <a:lnTo>
                  <a:pt x="180" y="875"/>
                </a:lnTo>
                <a:lnTo>
                  <a:pt x="162" y="860"/>
                </a:lnTo>
                <a:lnTo>
                  <a:pt x="145" y="843"/>
                </a:lnTo>
                <a:lnTo>
                  <a:pt x="128" y="826"/>
                </a:lnTo>
                <a:lnTo>
                  <a:pt x="113" y="808"/>
                </a:lnTo>
                <a:lnTo>
                  <a:pt x="98" y="789"/>
                </a:lnTo>
                <a:lnTo>
                  <a:pt x="84" y="769"/>
                </a:lnTo>
                <a:lnTo>
                  <a:pt x="72" y="749"/>
                </a:lnTo>
                <a:lnTo>
                  <a:pt x="60" y="730"/>
                </a:lnTo>
                <a:lnTo>
                  <a:pt x="49" y="708"/>
                </a:lnTo>
                <a:lnTo>
                  <a:pt x="39" y="686"/>
                </a:lnTo>
                <a:lnTo>
                  <a:pt x="30" y="663"/>
                </a:lnTo>
                <a:lnTo>
                  <a:pt x="22" y="640"/>
                </a:lnTo>
                <a:lnTo>
                  <a:pt x="16" y="617"/>
                </a:lnTo>
                <a:lnTo>
                  <a:pt x="10" y="593"/>
                </a:lnTo>
                <a:lnTo>
                  <a:pt x="6" y="569"/>
                </a:lnTo>
                <a:lnTo>
                  <a:pt x="2" y="544"/>
                </a:lnTo>
                <a:lnTo>
                  <a:pt x="0" y="519"/>
                </a:lnTo>
                <a:lnTo>
                  <a:pt x="0" y="494"/>
                </a:lnTo>
                <a:lnTo>
                  <a:pt x="0" y="468"/>
                </a:lnTo>
                <a:lnTo>
                  <a:pt x="2" y="443"/>
                </a:lnTo>
                <a:lnTo>
                  <a:pt x="6" y="418"/>
                </a:lnTo>
                <a:lnTo>
                  <a:pt x="10" y="395"/>
                </a:lnTo>
                <a:lnTo>
                  <a:pt x="16" y="371"/>
                </a:lnTo>
                <a:lnTo>
                  <a:pt x="22" y="347"/>
                </a:lnTo>
                <a:lnTo>
                  <a:pt x="30" y="324"/>
                </a:lnTo>
                <a:lnTo>
                  <a:pt x="39" y="302"/>
                </a:lnTo>
                <a:lnTo>
                  <a:pt x="49" y="280"/>
                </a:lnTo>
                <a:lnTo>
                  <a:pt x="60" y="258"/>
                </a:lnTo>
                <a:lnTo>
                  <a:pt x="72" y="238"/>
                </a:lnTo>
                <a:lnTo>
                  <a:pt x="84" y="218"/>
                </a:lnTo>
                <a:lnTo>
                  <a:pt x="98" y="199"/>
                </a:lnTo>
                <a:lnTo>
                  <a:pt x="113" y="180"/>
                </a:lnTo>
                <a:lnTo>
                  <a:pt x="128" y="162"/>
                </a:lnTo>
                <a:lnTo>
                  <a:pt x="145" y="145"/>
                </a:lnTo>
                <a:lnTo>
                  <a:pt x="162" y="128"/>
                </a:lnTo>
                <a:lnTo>
                  <a:pt x="180" y="113"/>
                </a:lnTo>
                <a:lnTo>
                  <a:pt x="199" y="98"/>
                </a:lnTo>
                <a:lnTo>
                  <a:pt x="218" y="84"/>
                </a:lnTo>
                <a:lnTo>
                  <a:pt x="238" y="72"/>
                </a:lnTo>
                <a:lnTo>
                  <a:pt x="258" y="60"/>
                </a:lnTo>
                <a:lnTo>
                  <a:pt x="279" y="49"/>
                </a:lnTo>
                <a:lnTo>
                  <a:pt x="301" y="39"/>
                </a:lnTo>
                <a:lnTo>
                  <a:pt x="324" y="30"/>
                </a:lnTo>
                <a:lnTo>
                  <a:pt x="347" y="22"/>
                </a:lnTo>
                <a:lnTo>
                  <a:pt x="370" y="15"/>
                </a:lnTo>
                <a:lnTo>
                  <a:pt x="394" y="10"/>
                </a:lnTo>
                <a:lnTo>
                  <a:pt x="418" y="5"/>
                </a:lnTo>
                <a:lnTo>
                  <a:pt x="442" y="2"/>
                </a:lnTo>
                <a:lnTo>
                  <a:pt x="467" y="0"/>
                </a:lnTo>
                <a:lnTo>
                  <a:pt x="493" y="0"/>
                </a:lnTo>
                <a:lnTo>
                  <a:pt x="500" y="0"/>
                </a:lnTo>
                <a:lnTo>
                  <a:pt x="508" y="0"/>
                </a:lnTo>
                <a:lnTo>
                  <a:pt x="516" y="0"/>
                </a:lnTo>
                <a:lnTo>
                  <a:pt x="524" y="1"/>
                </a:lnTo>
                <a:lnTo>
                  <a:pt x="531" y="2"/>
                </a:lnTo>
                <a:lnTo>
                  <a:pt x="539" y="2"/>
                </a:lnTo>
                <a:lnTo>
                  <a:pt x="546" y="3"/>
                </a:lnTo>
                <a:lnTo>
                  <a:pt x="553" y="3"/>
                </a:ln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7280" y="4229280"/>
            <a:ext cx="1576440" cy="1579320"/>
          </a:xfrm>
          <a:custGeom>
            <a:avLst/>
            <a:gdLst/>
            <a:ahLst/>
            <a:rect l="l" t="t" r="r" b="b"/>
            <a:pathLst>
              <a:path w="993" h="995">
                <a:moveTo>
                  <a:pt x="556" y="3"/>
                </a:moveTo>
                <a:lnTo>
                  <a:pt x="556" y="3"/>
                </a:lnTo>
                <a:lnTo>
                  <a:pt x="579" y="7"/>
                </a:lnTo>
                <a:lnTo>
                  <a:pt x="601" y="11"/>
                </a:lnTo>
                <a:lnTo>
                  <a:pt x="624" y="16"/>
                </a:lnTo>
                <a:lnTo>
                  <a:pt x="645" y="23"/>
                </a:lnTo>
                <a:lnTo>
                  <a:pt x="667" y="30"/>
                </a:lnTo>
                <a:lnTo>
                  <a:pt x="688" y="38"/>
                </a:lnTo>
                <a:lnTo>
                  <a:pt x="708" y="47"/>
                </a:lnTo>
                <a:lnTo>
                  <a:pt x="728" y="58"/>
                </a:lnTo>
                <a:lnTo>
                  <a:pt x="747" y="69"/>
                </a:lnTo>
                <a:lnTo>
                  <a:pt x="766" y="80"/>
                </a:lnTo>
                <a:lnTo>
                  <a:pt x="785" y="93"/>
                </a:lnTo>
                <a:lnTo>
                  <a:pt x="802" y="106"/>
                </a:lnTo>
                <a:lnTo>
                  <a:pt x="819" y="121"/>
                </a:lnTo>
                <a:lnTo>
                  <a:pt x="836" y="135"/>
                </a:lnTo>
                <a:lnTo>
                  <a:pt x="851" y="151"/>
                </a:lnTo>
                <a:lnTo>
                  <a:pt x="866" y="167"/>
                </a:lnTo>
                <a:lnTo>
                  <a:pt x="881" y="184"/>
                </a:lnTo>
                <a:lnTo>
                  <a:pt x="894" y="201"/>
                </a:lnTo>
                <a:lnTo>
                  <a:pt x="907" y="220"/>
                </a:lnTo>
                <a:lnTo>
                  <a:pt x="919" y="238"/>
                </a:lnTo>
                <a:lnTo>
                  <a:pt x="930" y="258"/>
                </a:lnTo>
                <a:lnTo>
                  <a:pt x="940" y="277"/>
                </a:lnTo>
                <a:lnTo>
                  <a:pt x="950" y="297"/>
                </a:lnTo>
                <a:lnTo>
                  <a:pt x="958" y="318"/>
                </a:lnTo>
                <a:lnTo>
                  <a:pt x="966" y="339"/>
                </a:lnTo>
                <a:lnTo>
                  <a:pt x="973" y="361"/>
                </a:lnTo>
                <a:lnTo>
                  <a:pt x="979" y="382"/>
                </a:lnTo>
                <a:lnTo>
                  <a:pt x="983" y="405"/>
                </a:lnTo>
                <a:lnTo>
                  <a:pt x="987" y="427"/>
                </a:lnTo>
                <a:lnTo>
                  <a:pt x="989" y="451"/>
                </a:lnTo>
                <a:lnTo>
                  <a:pt x="991" y="474"/>
                </a:lnTo>
                <a:lnTo>
                  <a:pt x="992" y="497"/>
                </a:lnTo>
                <a:lnTo>
                  <a:pt x="991" y="522"/>
                </a:lnTo>
                <a:lnTo>
                  <a:pt x="989" y="547"/>
                </a:lnTo>
                <a:lnTo>
                  <a:pt x="986" y="572"/>
                </a:lnTo>
                <a:lnTo>
                  <a:pt x="982" y="597"/>
                </a:lnTo>
                <a:lnTo>
                  <a:pt x="976" y="621"/>
                </a:lnTo>
                <a:lnTo>
                  <a:pt x="970" y="644"/>
                </a:lnTo>
                <a:lnTo>
                  <a:pt x="961" y="667"/>
                </a:lnTo>
                <a:lnTo>
                  <a:pt x="952" y="690"/>
                </a:lnTo>
                <a:lnTo>
                  <a:pt x="943" y="712"/>
                </a:lnTo>
                <a:lnTo>
                  <a:pt x="932" y="734"/>
                </a:lnTo>
                <a:lnTo>
                  <a:pt x="920" y="754"/>
                </a:lnTo>
                <a:lnTo>
                  <a:pt x="907" y="774"/>
                </a:lnTo>
                <a:lnTo>
                  <a:pt x="893" y="794"/>
                </a:lnTo>
                <a:lnTo>
                  <a:pt x="878" y="813"/>
                </a:lnTo>
                <a:lnTo>
                  <a:pt x="863" y="831"/>
                </a:lnTo>
                <a:lnTo>
                  <a:pt x="846" y="848"/>
                </a:lnTo>
                <a:lnTo>
                  <a:pt x="829" y="865"/>
                </a:lnTo>
                <a:lnTo>
                  <a:pt x="811" y="880"/>
                </a:lnTo>
                <a:lnTo>
                  <a:pt x="792" y="895"/>
                </a:lnTo>
                <a:lnTo>
                  <a:pt x="773" y="909"/>
                </a:lnTo>
                <a:lnTo>
                  <a:pt x="753" y="922"/>
                </a:lnTo>
                <a:lnTo>
                  <a:pt x="732" y="934"/>
                </a:lnTo>
                <a:lnTo>
                  <a:pt x="711" y="945"/>
                </a:lnTo>
                <a:lnTo>
                  <a:pt x="688" y="955"/>
                </a:lnTo>
                <a:lnTo>
                  <a:pt x="666" y="964"/>
                </a:lnTo>
                <a:lnTo>
                  <a:pt x="643" y="972"/>
                </a:lnTo>
                <a:lnTo>
                  <a:pt x="619" y="978"/>
                </a:lnTo>
                <a:lnTo>
                  <a:pt x="596" y="984"/>
                </a:lnTo>
                <a:lnTo>
                  <a:pt x="571" y="988"/>
                </a:lnTo>
                <a:lnTo>
                  <a:pt x="547" y="992"/>
                </a:lnTo>
                <a:lnTo>
                  <a:pt x="521" y="994"/>
                </a:lnTo>
                <a:lnTo>
                  <a:pt x="496" y="994"/>
                </a:lnTo>
                <a:lnTo>
                  <a:pt x="470" y="994"/>
                </a:lnTo>
                <a:lnTo>
                  <a:pt x="445" y="992"/>
                </a:lnTo>
                <a:lnTo>
                  <a:pt x="421" y="988"/>
                </a:lnTo>
                <a:lnTo>
                  <a:pt x="396" y="984"/>
                </a:lnTo>
                <a:lnTo>
                  <a:pt x="372" y="978"/>
                </a:lnTo>
                <a:lnTo>
                  <a:pt x="349" y="972"/>
                </a:lnTo>
                <a:lnTo>
                  <a:pt x="326" y="964"/>
                </a:lnTo>
                <a:lnTo>
                  <a:pt x="303" y="955"/>
                </a:lnTo>
                <a:lnTo>
                  <a:pt x="281" y="945"/>
                </a:lnTo>
                <a:lnTo>
                  <a:pt x="260" y="934"/>
                </a:lnTo>
                <a:lnTo>
                  <a:pt x="239" y="922"/>
                </a:lnTo>
                <a:lnTo>
                  <a:pt x="219" y="909"/>
                </a:lnTo>
                <a:lnTo>
                  <a:pt x="200" y="895"/>
                </a:lnTo>
                <a:lnTo>
                  <a:pt x="181" y="880"/>
                </a:lnTo>
                <a:lnTo>
                  <a:pt x="163" y="865"/>
                </a:lnTo>
                <a:lnTo>
                  <a:pt x="146" y="848"/>
                </a:lnTo>
                <a:lnTo>
                  <a:pt x="129" y="831"/>
                </a:lnTo>
                <a:lnTo>
                  <a:pt x="114" y="813"/>
                </a:lnTo>
                <a:lnTo>
                  <a:pt x="99" y="794"/>
                </a:lnTo>
                <a:lnTo>
                  <a:pt x="85" y="774"/>
                </a:lnTo>
                <a:lnTo>
                  <a:pt x="72" y="754"/>
                </a:lnTo>
                <a:lnTo>
                  <a:pt x="60" y="734"/>
                </a:lnTo>
                <a:lnTo>
                  <a:pt x="49" y="712"/>
                </a:lnTo>
                <a:lnTo>
                  <a:pt x="39" y="690"/>
                </a:lnTo>
                <a:lnTo>
                  <a:pt x="30" y="667"/>
                </a:lnTo>
                <a:lnTo>
                  <a:pt x="22" y="644"/>
                </a:lnTo>
                <a:lnTo>
                  <a:pt x="16" y="621"/>
                </a:lnTo>
                <a:lnTo>
                  <a:pt x="10" y="597"/>
                </a:lnTo>
                <a:lnTo>
                  <a:pt x="6" y="572"/>
                </a:lnTo>
                <a:lnTo>
                  <a:pt x="2" y="547"/>
                </a:lnTo>
                <a:lnTo>
                  <a:pt x="0" y="522"/>
                </a:lnTo>
                <a:lnTo>
                  <a:pt x="0" y="497"/>
                </a:lnTo>
                <a:lnTo>
                  <a:pt x="0" y="471"/>
                </a:lnTo>
                <a:lnTo>
                  <a:pt x="2" y="446"/>
                </a:lnTo>
                <a:lnTo>
                  <a:pt x="6" y="421"/>
                </a:lnTo>
                <a:lnTo>
                  <a:pt x="10" y="397"/>
                </a:lnTo>
                <a:lnTo>
                  <a:pt x="16" y="373"/>
                </a:lnTo>
                <a:lnTo>
                  <a:pt x="22" y="349"/>
                </a:lnTo>
                <a:lnTo>
                  <a:pt x="30" y="326"/>
                </a:lnTo>
                <a:lnTo>
                  <a:pt x="39" y="304"/>
                </a:lnTo>
                <a:lnTo>
                  <a:pt x="49" y="282"/>
                </a:lnTo>
                <a:lnTo>
                  <a:pt x="60" y="260"/>
                </a:lnTo>
                <a:lnTo>
                  <a:pt x="72" y="239"/>
                </a:lnTo>
                <a:lnTo>
                  <a:pt x="85" y="219"/>
                </a:lnTo>
                <a:lnTo>
                  <a:pt x="99" y="200"/>
                </a:lnTo>
                <a:lnTo>
                  <a:pt x="114" y="181"/>
                </a:lnTo>
                <a:lnTo>
                  <a:pt x="129" y="163"/>
                </a:lnTo>
                <a:lnTo>
                  <a:pt x="146" y="146"/>
                </a:lnTo>
                <a:lnTo>
                  <a:pt x="163" y="129"/>
                </a:lnTo>
                <a:lnTo>
                  <a:pt x="181" y="114"/>
                </a:lnTo>
                <a:lnTo>
                  <a:pt x="200" y="99"/>
                </a:lnTo>
                <a:lnTo>
                  <a:pt x="219" y="85"/>
                </a:lnTo>
                <a:lnTo>
                  <a:pt x="239" y="72"/>
                </a:lnTo>
                <a:lnTo>
                  <a:pt x="260" y="60"/>
                </a:lnTo>
                <a:lnTo>
                  <a:pt x="281" y="49"/>
                </a:lnTo>
                <a:lnTo>
                  <a:pt x="303" y="39"/>
                </a:lnTo>
                <a:lnTo>
                  <a:pt x="326" y="30"/>
                </a:lnTo>
                <a:lnTo>
                  <a:pt x="349" y="22"/>
                </a:lnTo>
                <a:lnTo>
                  <a:pt x="372" y="15"/>
                </a:lnTo>
                <a:lnTo>
                  <a:pt x="396" y="10"/>
                </a:lnTo>
                <a:lnTo>
                  <a:pt x="421" y="5"/>
                </a:lnTo>
                <a:lnTo>
                  <a:pt x="445" y="2"/>
                </a:lnTo>
                <a:lnTo>
                  <a:pt x="470" y="0"/>
                </a:lnTo>
                <a:lnTo>
                  <a:pt x="496" y="0"/>
                </a:lnTo>
                <a:lnTo>
                  <a:pt x="503" y="0"/>
                </a:lnTo>
                <a:lnTo>
                  <a:pt x="511" y="0"/>
                </a:lnTo>
                <a:lnTo>
                  <a:pt x="519" y="0"/>
                </a:lnTo>
                <a:lnTo>
                  <a:pt x="527" y="1"/>
                </a:lnTo>
                <a:lnTo>
                  <a:pt x="534" y="2"/>
                </a:lnTo>
                <a:lnTo>
                  <a:pt x="542" y="2"/>
                </a:lnTo>
                <a:lnTo>
                  <a:pt x="549" y="3"/>
                </a:lnTo>
                <a:lnTo>
                  <a:pt x="556" y="3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32080" y="1482840"/>
            <a:ext cx="173160" cy="47520"/>
          </a:xfrm>
          <a:custGeom>
            <a:avLst/>
            <a:gdLst/>
            <a:ahLst/>
            <a:rect l="l" t="t" r="r" b="b"/>
            <a:pathLst>
              <a:path w="109" h="30">
                <a:moveTo>
                  <a:pt x="54" y="0"/>
                </a:moveTo>
                <a:lnTo>
                  <a:pt x="65" y="1"/>
                </a:lnTo>
                <a:lnTo>
                  <a:pt x="75" y="2"/>
                </a:lnTo>
                <a:lnTo>
                  <a:pt x="84" y="2"/>
                </a:lnTo>
                <a:lnTo>
                  <a:pt x="92" y="5"/>
                </a:lnTo>
                <a:lnTo>
                  <a:pt x="99" y="7"/>
                </a:lnTo>
                <a:lnTo>
                  <a:pt x="104" y="9"/>
                </a:lnTo>
                <a:lnTo>
                  <a:pt x="107" y="12"/>
                </a:lnTo>
                <a:lnTo>
                  <a:pt x="108" y="15"/>
                </a:lnTo>
                <a:lnTo>
                  <a:pt x="107" y="17"/>
                </a:lnTo>
                <a:lnTo>
                  <a:pt x="104" y="20"/>
                </a:lnTo>
                <a:lnTo>
                  <a:pt x="99" y="22"/>
                </a:lnTo>
                <a:lnTo>
                  <a:pt x="92" y="25"/>
                </a:lnTo>
                <a:lnTo>
                  <a:pt x="84" y="27"/>
                </a:lnTo>
                <a:lnTo>
                  <a:pt x="75" y="28"/>
                </a:lnTo>
                <a:lnTo>
                  <a:pt x="65" y="29"/>
                </a:lnTo>
                <a:lnTo>
                  <a:pt x="54" y="29"/>
                </a:lnTo>
                <a:lnTo>
                  <a:pt x="44" y="29"/>
                </a:lnTo>
                <a:lnTo>
                  <a:pt x="33" y="28"/>
                </a:lnTo>
                <a:lnTo>
                  <a:pt x="25" y="27"/>
                </a:lnTo>
                <a:lnTo>
                  <a:pt x="16" y="25"/>
                </a:lnTo>
                <a:lnTo>
                  <a:pt x="9" y="22"/>
                </a:lnTo>
                <a:lnTo>
                  <a:pt x="5" y="20"/>
                </a:lnTo>
                <a:lnTo>
                  <a:pt x="1" y="17"/>
                </a:lnTo>
                <a:lnTo>
                  <a:pt x="0" y="15"/>
                </a:lnTo>
                <a:lnTo>
                  <a:pt x="1" y="12"/>
                </a:lnTo>
                <a:lnTo>
                  <a:pt x="5" y="9"/>
                </a:lnTo>
                <a:lnTo>
                  <a:pt x="9" y="7"/>
                </a:lnTo>
                <a:lnTo>
                  <a:pt x="16" y="5"/>
                </a:lnTo>
                <a:lnTo>
                  <a:pt x="25" y="2"/>
                </a:lnTo>
                <a:lnTo>
                  <a:pt x="33" y="2"/>
                </a:lnTo>
                <a:lnTo>
                  <a:pt x="44" y="1"/>
                </a:lnTo>
                <a:lnTo>
                  <a:pt x="54" y="0"/>
                </a:ln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32080" y="1482840"/>
            <a:ext cx="182520" cy="56880"/>
          </a:xfrm>
          <a:custGeom>
            <a:avLst/>
            <a:gdLst/>
            <a:ahLst/>
            <a:rect l="l" t="t" r="r" b="b"/>
            <a:pathLst>
              <a:path w="115" h="36">
                <a:moveTo>
                  <a:pt x="57" y="0"/>
                </a:moveTo>
                <a:lnTo>
                  <a:pt x="57" y="0"/>
                </a:lnTo>
                <a:lnTo>
                  <a:pt x="69" y="1"/>
                </a:lnTo>
                <a:lnTo>
                  <a:pt x="79" y="2"/>
                </a:lnTo>
                <a:lnTo>
                  <a:pt x="89" y="3"/>
                </a:lnTo>
                <a:lnTo>
                  <a:pt x="97" y="6"/>
                </a:lnTo>
                <a:lnTo>
                  <a:pt x="104" y="8"/>
                </a:lnTo>
                <a:lnTo>
                  <a:pt x="110" y="11"/>
                </a:lnTo>
                <a:lnTo>
                  <a:pt x="113" y="15"/>
                </a:lnTo>
                <a:lnTo>
                  <a:pt x="114" y="18"/>
                </a:lnTo>
                <a:lnTo>
                  <a:pt x="113" y="21"/>
                </a:lnTo>
                <a:lnTo>
                  <a:pt x="110" y="24"/>
                </a:lnTo>
                <a:lnTo>
                  <a:pt x="104" y="27"/>
                </a:lnTo>
                <a:lnTo>
                  <a:pt x="97" y="30"/>
                </a:lnTo>
                <a:lnTo>
                  <a:pt x="89" y="32"/>
                </a:lnTo>
                <a:lnTo>
                  <a:pt x="79" y="34"/>
                </a:lnTo>
                <a:lnTo>
                  <a:pt x="69" y="35"/>
                </a:lnTo>
                <a:lnTo>
                  <a:pt x="57" y="35"/>
                </a:lnTo>
                <a:lnTo>
                  <a:pt x="46" y="35"/>
                </a:lnTo>
                <a:lnTo>
                  <a:pt x="35" y="34"/>
                </a:lnTo>
                <a:lnTo>
                  <a:pt x="26" y="32"/>
                </a:lnTo>
                <a:lnTo>
                  <a:pt x="17" y="30"/>
                </a:lnTo>
                <a:lnTo>
                  <a:pt x="10" y="27"/>
                </a:lnTo>
                <a:lnTo>
                  <a:pt x="5" y="24"/>
                </a:lnTo>
                <a:lnTo>
                  <a:pt x="1" y="21"/>
                </a:lnTo>
                <a:lnTo>
                  <a:pt x="0" y="18"/>
                </a:lnTo>
                <a:lnTo>
                  <a:pt x="1" y="15"/>
                </a:lnTo>
                <a:lnTo>
                  <a:pt x="5" y="11"/>
                </a:lnTo>
                <a:lnTo>
                  <a:pt x="10" y="8"/>
                </a:lnTo>
                <a:lnTo>
                  <a:pt x="17" y="6"/>
                </a:lnTo>
                <a:lnTo>
                  <a:pt x="26" y="3"/>
                </a:lnTo>
                <a:lnTo>
                  <a:pt x="35" y="2"/>
                </a:lnTo>
                <a:lnTo>
                  <a:pt x="46" y="1"/>
                </a:lnTo>
                <a:lnTo>
                  <a:pt x="57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 is how much higher the gas pressure is than the atmospher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92360" y="2438280"/>
            <a:ext cx="2271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2360" y="4572000"/>
            <a:ext cx="2271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05040" y="2440080"/>
            <a:ext cx="0" cy="2131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3276720"/>
            <a:ext cx="304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4724280"/>
            <a:ext cx="914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</a:rPr>
              <a:t>G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ffus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ssage of gas through a small hole, into a vacuum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effusion rate measures how fast this happen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ham’s Law the rate of effusion is inversely proportional to the square root of the mass of its particl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523880" y="4876920"/>
                <a:ext cx="54104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ate of effusion for gas 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ate of effusion for gas 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eriving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ate of effusion should be proportional to u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rm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fusion Rate 1  = u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rm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Effusion Rate 2  = u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rm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952560" y="3738600"/>
                <a:ext cx="7461360" cy="25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ffusion rate 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ffusion rate 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R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RT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M2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1073160" y="3071880"/>
            <a:ext cx="30463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0" y="3200400"/>
            <a:ext cx="1332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iffus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preading of a gas through a room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llisions with other molecules slows down diffusion proces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st estimate is Graham’s Law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75920" y="985680"/>
            <a:ext cx="82868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compound effuses through a porous cylinder 1.60 times faster than chlorine. What is it’s molar mas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457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 0.00251 mol of N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effuses through a hole in 2.47 min, how much HCl would effuse in the same tim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457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sample of 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effuses through a hole in 38 seconds. what must be the molecular weight of gas that effuses in 55 seconds under identical condition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al Gas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l molecules do take up space and they do interact with each other (especially polar molecules)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ed to add correction factors to the ideal gas law to account for thes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olume Correc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actual volume free to move in is less because of particle siz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re molecules will have more effec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rrected volume  V’ = V - nb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 is an experimental constant that differs for each ga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’  =    nR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(V-nb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905120" y="4800600"/>
            <a:ext cx="1474560" cy="22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essure corre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cause the molecules are attracted to each other, the pressure on the container will be less than ide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pends on the number of molecules per li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ce two molecules interact, the effect must be squa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70000" y="4951440"/>
            <a:ext cx="2116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imes New Roman"/>
              </a:rPr>
              <a:t>observ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4040" y="4998960"/>
            <a:ext cx="19328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= P’ - a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70400" y="4470480"/>
            <a:ext cx="413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979520" y="4427640"/>
            <a:ext cx="680400" cy="18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ffff"/>
                </a:solidFill>
                <a:latin typeface="Times New Roman"/>
              </a:rPr>
              <a:t>(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89160" y="4427640"/>
            <a:ext cx="680400" cy="18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359320" y="4626000"/>
            <a:ext cx="689040" cy="1477080"/>
            <a:chOff x="5359320" y="4626000"/>
            <a:chExt cx="689040" cy="1477080"/>
          </a:xfrm>
        </p:grpSpPr>
        <p:sp>
          <p:nvSpPr>
            <p:cNvPr id="315" name=""/>
            <p:cNvSpPr/>
            <p:nvPr/>
          </p:nvSpPr>
          <p:spPr>
            <a:xfrm>
              <a:off x="5407920" y="5340240"/>
              <a:ext cx="58896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469840" y="4626000"/>
              <a:ext cx="46548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359320" y="5294160"/>
              <a:ext cx="68904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ltogeth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04960" y="937800"/>
            <a:ext cx="7772400" cy="523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ob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   nRT    -   a   n   </a:t>
            </a:r>
            <a:r>
              <a:rPr b="1" lang="en-US" sz="4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-nb             V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led the Van der Walls equation if rearrange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rrecte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rrecte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Pressur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Volu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495320" y="914400"/>
            <a:ext cx="5569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(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81120" y="838080"/>
            <a:ext cx="5569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876920" y="1600200"/>
            <a:ext cx="4982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454120" y="1547640"/>
            <a:ext cx="1284480" cy="22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1309680" y="3262320"/>
                <a:ext cx="683568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+ a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V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rPr>
                        <m:lit/>
                        <m:nor/>
                      </m:rPr>
                      <m:t xml:space="preserve"> x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V- nb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nRT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93640" y="410760"/>
            <a:ext cx="795672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Units of pressur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atmosphere = 760 mm Hg = 14.7 ps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60 mm Hg = 760 tor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atm = 101,325 Pascals = 101.325 kP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 make conversion factors from thes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724 mm Hg in kPa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orr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atm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ere does it come fr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and b are determined by experime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fferent for each ga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gger molecules have larger b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depends on both size and polarity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lculate the pressure exerted by 0.5000 mol Cl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n a 1.000 L container at 25.0º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ing the ideal gas law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457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n der Waals equation give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= 6.49 atm L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/mol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 = 0.0562 L/mo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e Gas Law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yle’s La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ssure and volume are inversely related at constant temperatur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V= 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 one goes up, the other goes down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V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phical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66680" y="685800"/>
            <a:ext cx="7239240" cy="525780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3124080"/>
            <a:ext cx="60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5943600"/>
            <a:ext cx="3124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 (at constant 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89160" y="-4496040"/>
            <a:ext cx="12918240" cy="102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52" y="21586"/>
                </a:moveTo>
                <a:arcTo wR="10800" hR="10800" stAng="5224148" swAng="5575852"/>
                <a:lnTo>
                  <a:pt x="10800" y="10800"/>
                </a:lnTo>
                <a:close/>
              </a:path>
              <a:path fill="none" w="21600" h="21600">
                <a:moveTo>
                  <a:pt x="11352" y="21586"/>
                </a:moveTo>
                <a:arcTo wR="10800" hR="10800" stAng="5224148" swAng="5575852"/>
              </a:path>
            </a:pathLst>
          </a:custGeom>
          <a:noFill/>
          <a:ln cap="rnd"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66680" y="685800"/>
            <a:ext cx="7239240" cy="525780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3124080"/>
            <a:ext cx="60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5943600"/>
            <a:ext cx="3429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P (at constant 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068480" y="686880"/>
            <a:ext cx="5637240" cy="525636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24280" y="2971800"/>
            <a:ext cx="1981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</a:rPr>
              <a:t>Slope =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29T17:58:10Z</dcterms:created>
  <dc:creator/>
  <dc:description/>
  <cp:keywords/>
  <dc:language>en-US</dc:language>
  <cp:lastModifiedBy>FPS</cp:lastModifiedBy>
  <cp:lastPrinted>1998-10-26T00:17:52Z</cp:lastPrinted>
  <dcterms:modified xsi:type="dcterms:W3CDTF">2008-10-02T13:17:26Z</dcterms:modified>
  <cp:revision>22</cp:revision>
  <dc:subject/>
  <dc:title>Chapter 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3</vt:r8>
  </property>
  <property fmtid="{D5CDD505-2E9C-101B-9397-08002B2CF9AE}" pid="8" name="HomePage">
    <vt:lpwstr>http://mrgreen.tierranet.com</vt:lpwstr>
  </property>
  <property fmtid="{D5CDD505-2E9C-101B-9397-08002B2CF9AE}" pid="9" name="LinkColor">
    <vt:r8>16711782</vt:r8>
  </property>
  <property fmtid="{D5CDD505-2E9C-101B-9397-08002B2CF9AE}" pid="10" name="MailAddress">
    <vt:lpwstr>tvgreen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DATA\Web Pages\Temp\APTEmp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